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9979025" cy="6832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23A7-1775-4AE4-9D58-015F5D201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8948-9C77-40C0-99F6-AA92E6CE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A0E6-669E-4EB7-964C-3F6A5B217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4FD9-D955-4731-A8B1-34605C014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3C10-0D7A-4C7F-8261-8E025764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8566-E0F9-43C8-9762-A8C17040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994F-9D76-4E79-AF21-911ED316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FE3F-13CA-4DF5-B3D0-763B1F73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7A6B-0DD3-47F1-B06E-51E058C1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4421-6946-459A-ACF5-7A79472D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8053-D372-4AD5-84BF-87570E24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7066-88CC-4E93-BEEF-0F3E261A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fcfcfc"/>
            </a:gs>
            <a:gs pos="100000">
              <a:srgbClr val="8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987F-377F-45E4-993D-F5DE75371B9E}" type="slidenum"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Тема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8964720" cy="19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Идентификация </a:t>
            </a:r>
            <a:br>
              <a:rPr sz="3600"/>
            </a:b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потенциально опасных и вредных факторов производственной среды </a:t>
            </a:r>
            <a:br>
              <a:rPr sz="3600"/>
            </a:b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в части электромагнитных полей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AutoShape 6"/>
          <p:cNvSpPr/>
          <p:nvPr/>
        </p:nvSpPr>
        <p:spPr>
          <a:xfrm>
            <a:off x="179280" y="189000"/>
            <a:ext cx="1079640" cy="792000"/>
          </a:xfrm>
          <a:prstGeom prst="roundRect">
            <a:avLst>
              <a:gd name="adj" fmla="val 34671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7592-1FDA-4490-8188-DAE44F5813EE}" type="slidenum">
              <a:rPr b="1" lang="ru-RU" sz="4000" spc="-1" strike="noStrike">
                <a:solidFill>
                  <a:srgbClr val="ffffff"/>
                </a:solidFill>
                <a:latin typeface="Arial"/>
              </a:rPr>
              <a:t>1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611280" y="3645000"/>
            <a:ext cx="8137440" cy="29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фанасьев Анатолий Иванович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ководитель Центра по контролю условий труда «Циклон-Тес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Тел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495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95-72-0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доб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15, 225</a:t>
            </a:r>
            <a:br>
              <a:rPr sz="2400"/>
            </a:b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тел.моб.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8-916) 519-73-20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эл.почта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fai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@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iklon.ru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айт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ww.ciklon.ru/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29"/>
          <p:cNvSpPr/>
          <p:nvPr/>
        </p:nvSpPr>
        <p:spPr>
          <a:xfrm>
            <a:off x="6084720" y="189000"/>
            <a:ext cx="2730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15 ноября 201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5578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Гипогеомагнитные поля</a:t>
            </a:r>
            <a:br>
              <a:rPr sz="3200"/>
            </a:b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(механизмы возникновения)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Пункт 5.1 СанПиН 2.1.8/2.2.4.2489-09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ипогеомагнитные поля в производственных, жилых и общественных зданиях и сооружения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lnSpc>
                <a:spcPct val="85000"/>
              </a:lnSpc>
              <a:spcBef>
                <a:spcPts val="14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5.1. Наиболее неблагоприят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гипогеомагнитные условия могут создаваться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в помещениях (объектах) гражданского и военного назначения, расположенных под землей (в том числе в метрополитене, шахтах, туннелях и др.)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в помещения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объектах), в конструкции которых используется 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большое количество металлических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железосодержащих) элемент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здания из железобетонных конструкц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др.)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179280" y="189000"/>
            <a:ext cx="1079640" cy="792000"/>
          </a:xfrm>
          <a:prstGeom prst="roundRect">
            <a:avLst>
              <a:gd name="adj" fmla="val 34671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28B1-52DA-4E28-87FC-705ACFAD1C22}" type="slidenum">
              <a:rPr b="1" lang="ru-RU" sz="4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8560" y="404280"/>
            <a:ext cx="7705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Гипогеомагнитные поля</a:t>
            </a:r>
            <a:br>
              <a:rPr sz="3200"/>
            </a:b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уточнение требование по идентификации </a:t>
            </a:r>
            <a:br>
              <a:rPr sz="2800"/>
            </a:b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в методике СОУТ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864216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 Unicode MS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 Unicode MS"/>
              </a:rPr>
              <a:t>Пункт 69 Проекта методики СОУТ: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Измерение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 Unicode MS"/>
              </a:rPr>
              <a:t>г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ипогеомагнитного поля  (оценка коэффициента ослабления геомагнитного поля) проводится только на рабочих местах</a:t>
            </a:r>
            <a:r>
              <a:rPr b="0" lang="ru-RU" sz="3200" spc="-1" strike="noStrike">
                <a:solidFill>
                  <a:srgbClr val="990000"/>
                </a:solidFill>
                <a:latin typeface="Arial Unicode MS"/>
              </a:rPr>
              <a:t> подземных и экранированных сооружений и объектов.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AutoShape 4"/>
          <p:cNvSpPr/>
          <p:nvPr/>
        </p:nvSpPr>
        <p:spPr>
          <a:xfrm>
            <a:off x="179280" y="189000"/>
            <a:ext cx="1079640" cy="792000"/>
          </a:xfrm>
          <a:prstGeom prst="roundRect">
            <a:avLst>
              <a:gd name="adj" fmla="val 34671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4D10-C55F-479B-957C-CF5BBBCD75B6}" type="slidenum">
              <a:rPr b="1" lang="ru-RU" sz="4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7556400" cy="117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Магнитные поля промчастоты 50 Гц</a:t>
            </a:r>
            <a:br>
              <a:rPr sz="3200"/>
            </a:b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(источники и механизмы возникновения)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AutoShape 3"/>
          <p:cNvSpPr/>
          <p:nvPr/>
        </p:nvSpPr>
        <p:spPr>
          <a:xfrm>
            <a:off x="179280" y="189000"/>
            <a:ext cx="1079640" cy="792000"/>
          </a:xfrm>
          <a:prstGeom prst="roundRect">
            <a:avLst>
              <a:gd name="adj" fmla="val 34671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4F5C-FC62-416A-9F2F-21E4E021159F}" type="slidenum">
              <a:rPr b="1" lang="ru-RU" sz="4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42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обенности в монтаже электропроводки и в заземлении аппаратуры, </a:t>
            </a:r>
            <a:br>
              <a:rPr sz="3200"/>
            </a:b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не запрещенные действующими Правилами,</a:t>
            </a: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гут быть причиной резкого (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в сотни ра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величения уровня магнитных полей в помещениях и на рабочих местах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7556400" cy="117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Магнитные поля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т системы электропитания в помещении</a:t>
            </a:r>
            <a:br>
              <a:rPr sz="2400"/>
            </a:b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(механизмы возникновения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AutoShape 3"/>
          <p:cNvSpPr/>
          <p:nvPr/>
        </p:nvSpPr>
        <p:spPr>
          <a:xfrm>
            <a:off x="179280" y="189000"/>
            <a:ext cx="1079640" cy="792000"/>
          </a:xfrm>
          <a:prstGeom prst="roundRect">
            <a:avLst>
              <a:gd name="adj" fmla="val 34671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1241-02CB-4D9D-9608-C1A1F04ACEF9}" type="slidenum">
              <a:rPr b="1" lang="ru-RU" sz="4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427280" y="1828800"/>
            <a:ext cx="4367160" cy="22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Магнитные поля создает не ток, а пространственная рамка с током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82" name="Group 5"/>
          <p:cNvGrpSpPr/>
          <p:nvPr/>
        </p:nvGrpSpPr>
        <p:grpSpPr>
          <a:xfrm>
            <a:off x="380880" y="1828800"/>
            <a:ext cx="3962520" cy="1828800"/>
            <a:chOff x="380880" y="1828800"/>
            <a:chExt cx="3962520" cy="1828800"/>
          </a:xfrm>
        </p:grpSpPr>
        <p:sp>
          <p:nvSpPr>
            <p:cNvPr id="83" name="Rectangle 6"/>
            <p:cNvSpPr/>
            <p:nvPr/>
          </p:nvSpPr>
          <p:spPr>
            <a:xfrm>
              <a:off x="1371600" y="1828800"/>
              <a:ext cx="1981080" cy="1828800"/>
            </a:xfrm>
            <a:prstGeom prst="rect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7"/>
            <p:cNvSpPr/>
            <p:nvPr/>
          </p:nvSpPr>
          <p:spPr>
            <a:xfrm>
              <a:off x="380880" y="2612880"/>
              <a:ext cx="743040" cy="782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"/>
            <p:cNvSpPr/>
            <p:nvPr/>
          </p:nvSpPr>
          <p:spPr>
            <a:xfrm>
              <a:off x="3600360" y="2612880"/>
              <a:ext cx="743040" cy="782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9"/>
            <p:cNvSpPr/>
            <p:nvPr/>
          </p:nvSpPr>
          <p:spPr>
            <a:xfrm>
              <a:off x="1123920" y="2873520"/>
              <a:ext cx="495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0"/>
            <p:cNvSpPr/>
            <p:nvPr/>
          </p:nvSpPr>
          <p:spPr>
            <a:xfrm>
              <a:off x="3105000" y="2873520"/>
              <a:ext cx="495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1"/>
            <p:cNvSpPr/>
            <p:nvPr/>
          </p:nvSpPr>
          <p:spPr>
            <a:xfrm>
              <a:off x="1619280" y="2090880"/>
              <a:ext cx="0" cy="78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2"/>
            <p:cNvSpPr/>
            <p:nvPr/>
          </p:nvSpPr>
          <p:spPr>
            <a:xfrm>
              <a:off x="3105000" y="2090880"/>
              <a:ext cx="0" cy="78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3"/>
            <p:cNvSpPr/>
            <p:nvPr/>
          </p:nvSpPr>
          <p:spPr>
            <a:xfrm>
              <a:off x="2120760" y="3454560"/>
              <a:ext cx="743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4"/>
            <p:cNvSpPr/>
            <p:nvPr/>
          </p:nvSpPr>
          <p:spPr>
            <a:xfrm flipH="1">
              <a:off x="2120760" y="2405160"/>
              <a:ext cx="743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5"/>
            <p:cNvSpPr/>
            <p:nvPr/>
          </p:nvSpPr>
          <p:spPr>
            <a:xfrm>
              <a:off x="1619280" y="2090880"/>
              <a:ext cx="148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6"/>
            <p:cNvSpPr/>
            <p:nvPr/>
          </p:nvSpPr>
          <p:spPr>
            <a:xfrm>
              <a:off x="1123920" y="3135240"/>
              <a:ext cx="247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7"/>
            <p:cNvSpPr/>
            <p:nvPr/>
          </p:nvSpPr>
          <p:spPr>
            <a:xfrm>
              <a:off x="628560" y="2873520"/>
              <a:ext cx="24768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8"/>
            <p:cNvSpPr/>
            <p:nvPr/>
          </p:nvSpPr>
          <p:spPr>
            <a:xfrm>
              <a:off x="2381400" y="2122560"/>
              <a:ext cx="247680" cy="2617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9"/>
            <p:cNvSpPr/>
            <p:nvPr/>
          </p:nvSpPr>
          <p:spPr>
            <a:xfrm>
              <a:off x="3848040" y="2873520"/>
              <a:ext cx="24768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20"/>
            <p:cNvSpPr/>
            <p:nvPr/>
          </p:nvSpPr>
          <p:spPr>
            <a:xfrm>
              <a:off x="2349360" y="3159000"/>
              <a:ext cx="247680" cy="2606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ectangle 21"/>
          <p:cNvSpPr/>
          <p:nvPr/>
        </p:nvSpPr>
        <p:spPr>
          <a:xfrm>
            <a:off x="304920" y="4191120"/>
            <a:ext cx="83818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Избыточное» заземление, выполненное в виде замкнутых контуров, заземление корпусов аппаратуры на элементы арматуры здания может быть причиной повышения магнитных полей в помещен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7556400" cy="117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Магнитные поля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т системы электропитания в помещении</a:t>
            </a:r>
            <a:br>
              <a:rPr sz="2400"/>
            </a:b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(экспериментальные данные 1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0" name="AutoShape 3"/>
          <p:cNvSpPr/>
          <p:nvPr/>
        </p:nvSpPr>
        <p:spPr>
          <a:xfrm>
            <a:off x="179280" y="189000"/>
            <a:ext cx="1079640" cy="792000"/>
          </a:xfrm>
          <a:prstGeom prst="roundRect">
            <a:avLst>
              <a:gd name="adj" fmla="val 34671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2F3F-D554-46C8-B1C3-294A8C0242D4}" type="slidenum">
              <a:rPr b="1" lang="ru-RU" sz="4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304920" y="4876920"/>
            <a:ext cx="83818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Два проводника скручены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к в проводниках 0,2 А. Приемная антенна над проводниками на высоте 2 см и перемещалась перпендикулярно проводникам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 – место расположения провод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5"/>
          <p:cNvGraphicFramePr/>
          <p:nvPr/>
        </p:nvGraphicFramePr>
        <p:xfrm>
          <a:off x="1828800" y="1600200"/>
          <a:ext cx="5029200" cy="307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600200"/>
                    <a:ext cx="5029200" cy="30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7556400" cy="117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Магнитные поля 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т системы электропитания в помещении</a:t>
            </a:r>
            <a:br>
              <a:rPr sz="2400"/>
            </a:b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(экспериментальные данные 2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5" name="AutoShape 3"/>
          <p:cNvSpPr/>
          <p:nvPr/>
        </p:nvSpPr>
        <p:spPr>
          <a:xfrm>
            <a:off x="179280" y="189000"/>
            <a:ext cx="1079640" cy="792000"/>
          </a:xfrm>
          <a:prstGeom prst="roundRect">
            <a:avLst>
              <a:gd name="adj" fmla="val 34671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4D4E-46F0-4FBA-AE5D-776CA5A69079}" type="slidenum">
              <a:rPr b="1" lang="ru-RU" sz="4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304920" y="4876920"/>
            <a:ext cx="83818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Расстояние между проводниками – 3 с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к в проводниках 0,2 А. приемная антенна над проводниками на высоте 2 см и перемещалась перпендикулярно проводникам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 – место расположения провод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5"/>
          <p:cNvGraphicFramePr/>
          <p:nvPr/>
        </p:nvGraphicFramePr>
        <p:xfrm>
          <a:off x="1751040" y="1447920"/>
          <a:ext cx="5072040" cy="324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1040" y="1447920"/>
                    <a:ext cx="5072040" cy="32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7556400" cy="117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Влияние заземления </a:t>
            </a:r>
            <a:br>
              <a:rPr sz="3200"/>
            </a:b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на уровень электромагнитных полей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AutoShape 3"/>
          <p:cNvSpPr/>
          <p:nvPr/>
        </p:nvSpPr>
        <p:spPr>
          <a:xfrm>
            <a:off x="179280" y="189000"/>
            <a:ext cx="1079640" cy="792000"/>
          </a:xfrm>
          <a:prstGeom prst="roundRect">
            <a:avLst>
              <a:gd name="adj" fmla="val 34671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3D75-AFA7-4BB1-A0B3-DC3189638E3E}" type="slidenum">
              <a:rPr b="1" lang="ru-RU" sz="4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4216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личие заземл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или его улучшение)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всегда приводит к снижению электрически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лей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личие заземл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или его улучшение)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никогда не приводит к снижению магнитных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ей, а зачастую, приводит к обратному эффекту – к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увеличению магнитных полей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-за возникновения дополнительных  контуров с токами утечек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755640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Гиперболизация </a:t>
            </a:r>
            <a:br>
              <a:rPr sz="3200"/>
            </a:b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магнитных полей от ПЭВМ 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на рабочих местах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AutoShape 3"/>
          <p:cNvSpPr/>
          <p:nvPr/>
        </p:nvSpPr>
        <p:spPr>
          <a:xfrm>
            <a:off x="179280" y="189000"/>
            <a:ext cx="1079640" cy="792000"/>
          </a:xfrm>
          <a:prstGeom prst="roundRect">
            <a:avLst>
              <a:gd name="adj" fmla="val 34671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5F63-41C3-449F-B700-E3EE13E2F66C}" type="slidenum">
              <a:rPr b="1" lang="ru-RU" sz="4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Эффект «переизлучения» магнитных полей</a:t>
            </a:r>
            <a:br>
              <a:rPr sz="2800"/>
            </a:b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 от дисплея, расположенного на столе с металлическим замкнутым каркасом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115" name="Group 5"/>
          <p:cNvGrpSpPr/>
          <p:nvPr/>
        </p:nvGrpSpPr>
        <p:grpSpPr>
          <a:xfrm>
            <a:off x="1752480" y="2281320"/>
            <a:ext cx="1440000" cy="1365120"/>
            <a:chOff x="1752480" y="2281320"/>
            <a:chExt cx="1440000" cy="1365120"/>
          </a:xfrm>
        </p:grpSpPr>
        <p:sp>
          <p:nvSpPr>
            <p:cNvPr id="116" name="Oval 6"/>
            <p:cNvSpPr/>
            <p:nvPr/>
          </p:nvSpPr>
          <p:spPr>
            <a:xfrm>
              <a:off x="1752480" y="2281320"/>
              <a:ext cx="1440000" cy="136512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844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7"/>
            <p:cNvSpPr/>
            <p:nvPr/>
          </p:nvSpPr>
          <p:spPr>
            <a:xfrm>
              <a:off x="1979640" y="2352960"/>
              <a:ext cx="1212480" cy="11494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844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8"/>
            <p:cNvSpPr/>
            <p:nvPr/>
          </p:nvSpPr>
          <p:spPr>
            <a:xfrm>
              <a:off x="2207160" y="2352960"/>
              <a:ext cx="985320" cy="9338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844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Line 9"/>
          <p:cNvSpPr/>
          <p:nvPr/>
        </p:nvSpPr>
        <p:spPr>
          <a:xfrm>
            <a:off x="2585880" y="2205000"/>
            <a:ext cx="0" cy="1971720"/>
          </a:xfrm>
          <a:prstGeom prst="line">
            <a:avLst/>
          </a:prstGeom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2963880" y="1371600"/>
            <a:ext cx="1442880" cy="1363680"/>
            <a:chOff x="2963880" y="1371600"/>
            <a:chExt cx="1442880" cy="1363680"/>
          </a:xfrm>
        </p:grpSpPr>
        <p:sp>
          <p:nvSpPr>
            <p:cNvPr id="121" name="Oval 11"/>
            <p:cNvSpPr/>
            <p:nvPr/>
          </p:nvSpPr>
          <p:spPr>
            <a:xfrm flipH="1" flipV="1">
              <a:off x="2963880" y="1371600"/>
              <a:ext cx="1442880" cy="13636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844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2"/>
            <p:cNvSpPr/>
            <p:nvPr/>
          </p:nvSpPr>
          <p:spPr>
            <a:xfrm flipH="1" flipV="1">
              <a:off x="2963880" y="1515240"/>
              <a:ext cx="1215000" cy="1148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844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3"/>
            <p:cNvSpPr/>
            <p:nvPr/>
          </p:nvSpPr>
          <p:spPr>
            <a:xfrm flipH="1" flipV="1">
              <a:off x="2964240" y="1730520"/>
              <a:ext cx="987120" cy="9327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844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Line 14"/>
          <p:cNvSpPr/>
          <p:nvPr/>
        </p:nvSpPr>
        <p:spPr>
          <a:xfrm>
            <a:off x="2585880" y="2205000"/>
            <a:ext cx="4170600" cy="0"/>
          </a:xfrm>
          <a:prstGeom prst="line">
            <a:avLst/>
          </a:prstGeom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5"/>
          <p:cNvSpPr/>
          <p:nvPr/>
        </p:nvSpPr>
        <p:spPr>
          <a:xfrm flipV="1" rot="19727400">
            <a:off x="2661840" y="2129760"/>
            <a:ext cx="1063800" cy="833400"/>
          </a:xfrm>
          <a:custGeom>
            <a:avLst/>
            <a:gdLst>
              <a:gd name="textAreaLeft" fmla="*/ 221400 w 1063800"/>
              <a:gd name="textAreaRight" fmla="*/ 842400 w 1063800"/>
              <a:gd name="textAreaTop" fmla="*/ 173520 h 833400"/>
              <a:gd name="textAreaBottom" fmla="*/ 659880 h 83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969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16"/>
          <p:cNvGrpSpPr/>
          <p:nvPr/>
        </p:nvGrpSpPr>
        <p:grpSpPr>
          <a:xfrm>
            <a:off x="5087880" y="3370320"/>
            <a:ext cx="1136880" cy="1666800"/>
            <a:chOff x="5087880" y="3370320"/>
            <a:chExt cx="1136880" cy="1666800"/>
          </a:xfrm>
        </p:grpSpPr>
        <p:sp>
          <p:nvSpPr>
            <p:cNvPr id="127" name="Oval 17"/>
            <p:cNvSpPr/>
            <p:nvPr/>
          </p:nvSpPr>
          <p:spPr>
            <a:xfrm>
              <a:off x="5087880" y="3370320"/>
              <a:ext cx="1136880" cy="1666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8"/>
            <p:cNvSpPr/>
            <p:nvPr/>
          </p:nvSpPr>
          <p:spPr>
            <a:xfrm>
              <a:off x="5239440" y="3597480"/>
              <a:ext cx="826920" cy="12121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9"/>
            <p:cNvSpPr/>
            <p:nvPr/>
          </p:nvSpPr>
          <p:spPr>
            <a:xfrm>
              <a:off x="5391000" y="3824640"/>
              <a:ext cx="567360" cy="833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20"/>
            <p:cNvSpPr/>
            <p:nvPr/>
          </p:nvSpPr>
          <p:spPr>
            <a:xfrm>
              <a:off x="5542200" y="4051800"/>
              <a:ext cx="309600" cy="454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21"/>
          <p:cNvGrpSpPr/>
          <p:nvPr/>
        </p:nvGrpSpPr>
        <p:grpSpPr>
          <a:xfrm>
            <a:off x="3573360" y="3370320"/>
            <a:ext cx="1136880" cy="1666800"/>
            <a:chOff x="3573360" y="3370320"/>
            <a:chExt cx="1136880" cy="1666800"/>
          </a:xfrm>
        </p:grpSpPr>
        <p:sp>
          <p:nvSpPr>
            <p:cNvPr id="132" name="Oval 22"/>
            <p:cNvSpPr/>
            <p:nvPr/>
          </p:nvSpPr>
          <p:spPr>
            <a:xfrm>
              <a:off x="3573360" y="3370320"/>
              <a:ext cx="1136880" cy="1666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23"/>
            <p:cNvSpPr/>
            <p:nvPr/>
          </p:nvSpPr>
          <p:spPr>
            <a:xfrm>
              <a:off x="3724920" y="3597480"/>
              <a:ext cx="826920" cy="12121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24"/>
            <p:cNvSpPr/>
            <p:nvPr/>
          </p:nvSpPr>
          <p:spPr>
            <a:xfrm>
              <a:off x="3876480" y="3824640"/>
              <a:ext cx="567360" cy="833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25"/>
            <p:cNvSpPr/>
            <p:nvPr/>
          </p:nvSpPr>
          <p:spPr>
            <a:xfrm>
              <a:off x="4027680" y="4051800"/>
              <a:ext cx="309600" cy="454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Line 26"/>
          <p:cNvSpPr/>
          <p:nvPr/>
        </p:nvSpPr>
        <p:spPr>
          <a:xfrm>
            <a:off x="2552760" y="4176720"/>
            <a:ext cx="4170240" cy="0"/>
          </a:xfrm>
          <a:prstGeom prst="line">
            <a:avLst/>
          </a:prstGeom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7"/>
          <p:cNvSpPr/>
          <p:nvPr/>
        </p:nvSpPr>
        <p:spPr>
          <a:xfrm>
            <a:off x="6756480" y="2205000"/>
            <a:ext cx="0" cy="1971720"/>
          </a:xfrm>
          <a:prstGeom prst="line">
            <a:avLst/>
          </a:prstGeom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28"/>
          <p:cNvGrpSpPr/>
          <p:nvPr/>
        </p:nvGrpSpPr>
        <p:grpSpPr>
          <a:xfrm>
            <a:off x="5923080" y="2535120"/>
            <a:ext cx="530280" cy="532080"/>
            <a:chOff x="5923080" y="2535120"/>
            <a:chExt cx="530280" cy="532080"/>
          </a:xfrm>
        </p:grpSpPr>
        <p:sp>
          <p:nvSpPr>
            <p:cNvPr id="139" name="Line 29"/>
            <p:cNvSpPr/>
            <p:nvPr/>
          </p:nvSpPr>
          <p:spPr>
            <a:xfrm>
              <a:off x="5923080" y="2535120"/>
              <a:ext cx="530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30"/>
            <p:cNvSpPr/>
            <p:nvPr/>
          </p:nvSpPr>
          <p:spPr>
            <a:xfrm>
              <a:off x="6453360" y="2535120"/>
              <a:ext cx="0" cy="532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31"/>
          <p:cNvSpPr/>
          <p:nvPr/>
        </p:nvSpPr>
        <p:spPr>
          <a:xfrm>
            <a:off x="5846760" y="2638440"/>
            <a:ext cx="453960" cy="37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755640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Магнитные  поля </a:t>
            </a:r>
            <a:br>
              <a:rPr sz="3200"/>
            </a:b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от элементов электропитания оборудования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AutoShape 3"/>
          <p:cNvSpPr/>
          <p:nvPr/>
        </p:nvSpPr>
        <p:spPr>
          <a:xfrm>
            <a:off x="179280" y="189000"/>
            <a:ext cx="1079640" cy="792000"/>
          </a:xfrm>
          <a:prstGeom prst="roundRect">
            <a:avLst>
              <a:gd name="adj" fmla="val 34671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73D1-90F7-4CA9-A26A-81B3DAF7BCC8}" type="slidenum">
              <a:rPr b="1" lang="ru-RU" sz="4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920" y="4508280"/>
            <a:ext cx="86104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Повышенный фон магнитного поля могут создавать двухпроводные цепи электропитания, в которых имеются сетевые фильтры, служащие для борьбы с сетевыми помехами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145" name="Group 5"/>
          <p:cNvGrpSpPr/>
          <p:nvPr/>
        </p:nvGrpSpPr>
        <p:grpSpPr>
          <a:xfrm>
            <a:off x="324000" y="1773360"/>
            <a:ext cx="8005320" cy="2152080"/>
            <a:chOff x="324000" y="1773360"/>
            <a:chExt cx="8005320" cy="2152080"/>
          </a:xfrm>
        </p:grpSpPr>
        <p:sp>
          <p:nvSpPr>
            <p:cNvPr id="146" name="Rectangle 6"/>
            <p:cNvSpPr/>
            <p:nvPr/>
          </p:nvSpPr>
          <p:spPr>
            <a:xfrm>
              <a:off x="7257960" y="2368440"/>
              <a:ext cx="1071360" cy="10044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7"/>
            <p:cNvSpPr/>
            <p:nvPr/>
          </p:nvSpPr>
          <p:spPr>
            <a:xfrm>
              <a:off x="7616880" y="2701800"/>
              <a:ext cx="353880" cy="3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8"/>
            <p:cNvSpPr/>
            <p:nvPr/>
          </p:nvSpPr>
          <p:spPr>
            <a:xfrm>
              <a:off x="7711560" y="2703600"/>
              <a:ext cx="156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9"/>
            <p:cNvSpPr/>
            <p:nvPr/>
          </p:nvSpPr>
          <p:spPr>
            <a:xfrm>
              <a:off x="7873920" y="27036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0"/>
            <p:cNvSpPr/>
            <p:nvPr/>
          </p:nvSpPr>
          <p:spPr>
            <a:xfrm>
              <a:off x="3904560" y="2077920"/>
              <a:ext cx="3571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1"/>
            <p:cNvSpPr/>
            <p:nvPr/>
          </p:nvSpPr>
          <p:spPr>
            <a:xfrm>
              <a:off x="3957480" y="208908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2"/>
            <p:cNvSpPr/>
            <p:nvPr/>
          </p:nvSpPr>
          <p:spPr>
            <a:xfrm>
              <a:off x="4118400" y="21715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3"/>
            <p:cNvSpPr/>
            <p:nvPr/>
          </p:nvSpPr>
          <p:spPr>
            <a:xfrm>
              <a:off x="4203360" y="21715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14"/>
            <p:cNvGrpSpPr/>
            <p:nvPr/>
          </p:nvGrpSpPr>
          <p:grpSpPr>
            <a:xfrm>
              <a:off x="4052160" y="2201760"/>
              <a:ext cx="1780920" cy="499320"/>
              <a:chOff x="4052160" y="2201760"/>
              <a:chExt cx="1780920" cy="499320"/>
            </a:xfrm>
          </p:grpSpPr>
          <p:grpSp>
            <p:nvGrpSpPr>
              <p:cNvPr id="155" name="Group 15"/>
              <p:cNvGrpSpPr/>
              <p:nvPr/>
            </p:nvGrpSpPr>
            <p:grpSpPr>
              <a:xfrm>
                <a:off x="4409280" y="2201760"/>
                <a:ext cx="1071360" cy="336240"/>
                <a:chOff x="4409280" y="2201760"/>
                <a:chExt cx="1071360" cy="336240"/>
              </a:xfrm>
            </p:grpSpPr>
            <p:sp>
              <p:nvSpPr>
                <p:cNvPr id="156" name="Oval 16"/>
                <p:cNvSpPr/>
                <p:nvPr/>
              </p:nvSpPr>
              <p:spPr>
                <a:xfrm>
                  <a:off x="4409280" y="2201760"/>
                  <a:ext cx="358560" cy="336240"/>
                </a:xfrm>
                <a:prstGeom prst="ellipse">
                  <a:avLst/>
                </a:prstGeom>
                <a:solidFill>
                  <a:srgbClr val="ffffff"/>
                </a:solidFill>
                <a:ln w="36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Oval 17"/>
                <p:cNvSpPr/>
                <p:nvPr/>
              </p:nvSpPr>
              <p:spPr>
                <a:xfrm>
                  <a:off x="4764960" y="2201760"/>
                  <a:ext cx="358560" cy="336240"/>
                </a:xfrm>
                <a:prstGeom prst="ellipse">
                  <a:avLst/>
                </a:prstGeom>
                <a:solidFill>
                  <a:srgbClr val="ffffff"/>
                </a:solidFill>
                <a:ln w="36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Oval 18"/>
                <p:cNvSpPr/>
                <p:nvPr/>
              </p:nvSpPr>
              <p:spPr>
                <a:xfrm>
                  <a:off x="5120280" y="2201760"/>
                  <a:ext cx="360360" cy="336240"/>
                </a:xfrm>
                <a:prstGeom prst="ellipse">
                  <a:avLst/>
                </a:prstGeom>
                <a:solidFill>
                  <a:srgbClr val="ffffff"/>
                </a:solidFill>
                <a:ln w="36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Rectangle 19"/>
              <p:cNvSpPr/>
              <p:nvPr/>
            </p:nvSpPr>
            <p:spPr>
              <a:xfrm>
                <a:off x="4231440" y="2368080"/>
                <a:ext cx="1424160" cy="333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20"/>
              <p:cNvSpPr/>
              <p:nvPr/>
            </p:nvSpPr>
            <p:spPr>
              <a:xfrm>
                <a:off x="4052160" y="2350800"/>
                <a:ext cx="357120" cy="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21"/>
              <p:cNvSpPr/>
              <p:nvPr/>
            </p:nvSpPr>
            <p:spPr>
              <a:xfrm>
                <a:off x="5477760" y="2350800"/>
                <a:ext cx="355320" cy="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Group 22"/>
            <p:cNvGrpSpPr/>
            <p:nvPr/>
          </p:nvGrpSpPr>
          <p:grpSpPr>
            <a:xfrm>
              <a:off x="5312880" y="2360520"/>
              <a:ext cx="665280" cy="1000800"/>
              <a:chOff x="5312880" y="2360520"/>
              <a:chExt cx="665280" cy="1000800"/>
            </a:xfrm>
          </p:grpSpPr>
          <p:grpSp>
            <p:nvGrpSpPr>
              <p:cNvPr id="163" name="Group 23"/>
              <p:cNvGrpSpPr/>
              <p:nvPr/>
            </p:nvGrpSpPr>
            <p:grpSpPr>
              <a:xfrm>
                <a:off x="5622480" y="2360520"/>
                <a:ext cx="355680" cy="500760"/>
                <a:chOff x="5622480" y="2360520"/>
                <a:chExt cx="355680" cy="500760"/>
              </a:xfrm>
            </p:grpSpPr>
            <p:sp>
              <p:nvSpPr>
                <p:cNvPr id="164" name="Line 24"/>
                <p:cNvSpPr/>
                <p:nvPr/>
              </p:nvSpPr>
              <p:spPr>
                <a:xfrm>
                  <a:off x="5800320" y="2360520"/>
                  <a:ext cx="1440" cy="16632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Rectangle 25"/>
                <p:cNvSpPr/>
                <p:nvPr/>
              </p:nvSpPr>
              <p:spPr>
                <a:xfrm>
                  <a:off x="5622480" y="2501280"/>
                  <a:ext cx="355680" cy="52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6"/>
                <p:cNvSpPr/>
                <p:nvPr/>
              </p:nvSpPr>
              <p:spPr>
                <a:xfrm>
                  <a:off x="5622480" y="2669760"/>
                  <a:ext cx="355680" cy="53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Line 27"/>
                <p:cNvSpPr/>
                <p:nvPr/>
              </p:nvSpPr>
              <p:spPr>
                <a:xfrm>
                  <a:off x="5800320" y="2694960"/>
                  <a:ext cx="1440" cy="16632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" name="Group 28"/>
              <p:cNvGrpSpPr/>
              <p:nvPr/>
            </p:nvGrpSpPr>
            <p:grpSpPr>
              <a:xfrm>
                <a:off x="5622480" y="2861640"/>
                <a:ext cx="355680" cy="499680"/>
                <a:chOff x="5622480" y="2861640"/>
                <a:chExt cx="355680" cy="499680"/>
              </a:xfrm>
            </p:grpSpPr>
            <p:sp>
              <p:nvSpPr>
                <p:cNvPr id="169" name="Line 29"/>
                <p:cNvSpPr/>
                <p:nvPr/>
              </p:nvSpPr>
              <p:spPr>
                <a:xfrm>
                  <a:off x="5800320" y="2861640"/>
                  <a:ext cx="1440" cy="16668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Rectangle 30"/>
                <p:cNvSpPr/>
                <p:nvPr/>
              </p:nvSpPr>
              <p:spPr>
                <a:xfrm>
                  <a:off x="5622480" y="3002760"/>
                  <a:ext cx="355680" cy="53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31"/>
                <p:cNvSpPr/>
                <p:nvPr/>
              </p:nvSpPr>
              <p:spPr>
                <a:xfrm>
                  <a:off x="5622480" y="3169440"/>
                  <a:ext cx="355680" cy="51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Line 32"/>
                <p:cNvSpPr/>
                <p:nvPr/>
              </p:nvSpPr>
              <p:spPr>
                <a:xfrm>
                  <a:off x="5800320" y="3195000"/>
                  <a:ext cx="1440" cy="16632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33"/>
              <p:cNvGrpSpPr/>
              <p:nvPr/>
            </p:nvGrpSpPr>
            <p:grpSpPr>
              <a:xfrm>
                <a:off x="5312880" y="2694960"/>
                <a:ext cx="487440" cy="333360"/>
                <a:chOff x="5312880" y="2694960"/>
                <a:chExt cx="487440" cy="333360"/>
              </a:xfrm>
            </p:grpSpPr>
            <p:sp>
              <p:nvSpPr>
                <p:cNvPr id="174" name="Rectangle 34"/>
                <p:cNvSpPr/>
                <p:nvPr/>
              </p:nvSpPr>
              <p:spPr>
                <a:xfrm>
                  <a:off x="5443200" y="2844000"/>
                  <a:ext cx="357120" cy="34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35"/>
                <p:cNvSpPr/>
                <p:nvPr/>
              </p:nvSpPr>
              <p:spPr>
                <a:xfrm>
                  <a:off x="5416200" y="2694960"/>
                  <a:ext cx="56880" cy="333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Line 36"/>
                <p:cNvSpPr/>
                <p:nvPr/>
              </p:nvSpPr>
              <p:spPr>
                <a:xfrm>
                  <a:off x="5312880" y="2813760"/>
                  <a:ext cx="1440" cy="13464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Line 37"/>
                <p:cNvSpPr/>
                <p:nvPr/>
              </p:nvSpPr>
              <p:spPr>
                <a:xfrm>
                  <a:off x="5363640" y="2770920"/>
                  <a:ext cx="1800" cy="21096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Group 38"/>
            <p:cNvGrpSpPr/>
            <p:nvPr/>
          </p:nvGrpSpPr>
          <p:grpSpPr>
            <a:xfrm>
              <a:off x="4052160" y="3203640"/>
              <a:ext cx="1780920" cy="499320"/>
              <a:chOff x="4052160" y="3203640"/>
              <a:chExt cx="1780920" cy="499320"/>
            </a:xfrm>
          </p:grpSpPr>
          <p:grpSp>
            <p:nvGrpSpPr>
              <p:cNvPr id="179" name="Group 39"/>
              <p:cNvGrpSpPr/>
              <p:nvPr/>
            </p:nvGrpSpPr>
            <p:grpSpPr>
              <a:xfrm>
                <a:off x="4409280" y="3203640"/>
                <a:ext cx="1071360" cy="335880"/>
                <a:chOff x="4409280" y="3203640"/>
                <a:chExt cx="1071360" cy="335880"/>
              </a:xfrm>
            </p:grpSpPr>
            <p:sp>
              <p:nvSpPr>
                <p:cNvPr id="180" name="Oval 40"/>
                <p:cNvSpPr/>
                <p:nvPr/>
              </p:nvSpPr>
              <p:spPr>
                <a:xfrm>
                  <a:off x="4409280" y="3203640"/>
                  <a:ext cx="358560" cy="335880"/>
                </a:xfrm>
                <a:prstGeom prst="ellipse">
                  <a:avLst/>
                </a:prstGeom>
                <a:solidFill>
                  <a:srgbClr val="ffffff"/>
                </a:solidFill>
                <a:ln w="36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Oval 41"/>
                <p:cNvSpPr/>
                <p:nvPr/>
              </p:nvSpPr>
              <p:spPr>
                <a:xfrm>
                  <a:off x="4764960" y="3203640"/>
                  <a:ext cx="358560" cy="335880"/>
                </a:xfrm>
                <a:prstGeom prst="ellipse">
                  <a:avLst/>
                </a:prstGeom>
                <a:solidFill>
                  <a:srgbClr val="ffffff"/>
                </a:solidFill>
                <a:ln w="36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Oval 42"/>
                <p:cNvSpPr/>
                <p:nvPr/>
              </p:nvSpPr>
              <p:spPr>
                <a:xfrm>
                  <a:off x="5120280" y="3203640"/>
                  <a:ext cx="360360" cy="335880"/>
                </a:xfrm>
                <a:prstGeom prst="ellipse">
                  <a:avLst/>
                </a:prstGeom>
                <a:solidFill>
                  <a:srgbClr val="ffffff"/>
                </a:solidFill>
                <a:ln w="36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Rectangle 43"/>
              <p:cNvSpPr/>
              <p:nvPr/>
            </p:nvSpPr>
            <p:spPr>
              <a:xfrm>
                <a:off x="4231440" y="3369960"/>
                <a:ext cx="1424160" cy="333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44"/>
              <p:cNvSpPr/>
              <p:nvPr/>
            </p:nvSpPr>
            <p:spPr>
              <a:xfrm>
                <a:off x="4052160" y="3352320"/>
                <a:ext cx="357120" cy="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45"/>
              <p:cNvSpPr/>
              <p:nvPr/>
            </p:nvSpPr>
            <p:spPr>
              <a:xfrm>
                <a:off x="5477760" y="3352320"/>
                <a:ext cx="355320" cy="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Group 46"/>
            <p:cNvGrpSpPr/>
            <p:nvPr/>
          </p:nvGrpSpPr>
          <p:grpSpPr>
            <a:xfrm>
              <a:off x="3529800" y="2360520"/>
              <a:ext cx="666720" cy="1000800"/>
              <a:chOff x="3529800" y="2360520"/>
              <a:chExt cx="666720" cy="1000800"/>
            </a:xfrm>
          </p:grpSpPr>
          <p:grpSp>
            <p:nvGrpSpPr>
              <p:cNvPr id="187" name="Group 47"/>
              <p:cNvGrpSpPr/>
              <p:nvPr/>
            </p:nvGrpSpPr>
            <p:grpSpPr>
              <a:xfrm>
                <a:off x="3840840" y="2360520"/>
                <a:ext cx="355680" cy="500760"/>
                <a:chOff x="3840840" y="2360520"/>
                <a:chExt cx="355680" cy="500760"/>
              </a:xfrm>
            </p:grpSpPr>
            <p:sp>
              <p:nvSpPr>
                <p:cNvPr id="188" name="Line 48"/>
                <p:cNvSpPr/>
                <p:nvPr/>
              </p:nvSpPr>
              <p:spPr>
                <a:xfrm>
                  <a:off x="4018680" y="2360520"/>
                  <a:ext cx="1800" cy="16632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Rectangle 49"/>
                <p:cNvSpPr/>
                <p:nvPr/>
              </p:nvSpPr>
              <p:spPr>
                <a:xfrm>
                  <a:off x="3840840" y="2501280"/>
                  <a:ext cx="355680" cy="52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Rectangle 50"/>
                <p:cNvSpPr/>
                <p:nvPr/>
              </p:nvSpPr>
              <p:spPr>
                <a:xfrm>
                  <a:off x="3840840" y="2669760"/>
                  <a:ext cx="355680" cy="53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Line 51"/>
                <p:cNvSpPr/>
                <p:nvPr/>
              </p:nvSpPr>
              <p:spPr>
                <a:xfrm>
                  <a:off x="4018680" y="2694960"/>
                  <a:ext cx="1800" cy="16632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Group 52"/>
              <p:cNvGrpSpPr/>
              <p:nvPr/>
            </p:nvGrpSpPr>
            <p:grpSpPr>
              <a:xfrm>
                <a:off x="3840840" y="2861640"/>
                <a:ext cx="355680" cy="499680"/>
                <a:chOff x="3840840" y="2861640"/>
                <a:chExt cx="355680" cy="499680"/>
              </a:xfrm>
            </p:grpSpPr>
            <p:sp>
              <p:nvSpPr>
                <p:cNvPr id="193" name="Line 53"/>
                <p:cNvSpPr/>
                <p:nvPr/>
              </p:nvSpPr>
              <p:spPr>
                <a:xfrm>
                  <a:off x="4018680" y="2861640"/>
                  <a:ext cx="1800" cy="16668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Rectangle 54"/>
                <p:cNvSpPr/>
                <p:nvPr/>
              </p:nvSpPr>
              <p:spPr>
                <a:xfrm>
                  <a:off x="3840840" y="3002760"/>
                  <a:ext cx="355680" cy="53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Rectangle 55"/>
                <p:cNvSpPr/>
                <p:nvPr/>
              </p:nvSpPr>
              <p:spPr>
                <a:xfrm>
                  <a:off x="3840840" y="3169440"/>
                  <a:ext cx="355680" cy="51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56"/>
                <p:cNvSpPr/>
                <p:nvPr/>
              </p:nvSpPr>
              <p:spPr>
                <a:xfrm>
                  <a:off x="4018680" y="3195000"/>
                  <a:ext cx="1800" cy="16632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Group 57"/>
              <p:cNvGrpSpPr/>
              <p:nvPr/>
            </p:nvGrpSpPr>
            <p:grpSpPr>
              <a:xfrm>
                <a:off x="3529800" y="2694960"/>
                <a:ext cx="488880" cy="333360"/>
                <a:chOff x="3529800" y="2694960"/>
                <a:chExt cx="488880" cy="333360"/>
              </a:xfrm>
            </p:grpSpPr>
            <p:sp>
              <p:nvSpPr>
                <p:cNvPr id="198" name="Rectangle 58"/>
                <p:cNvSpPr/>
                <p:nvPr/>
              </p:nvSpPr>
              <p:spPr>
                <a:xfrm>
                  <a:off x="3663000" y="2844000"/>
                  <a:ext cx="355680" cy="34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Rectangle 59"/>
                <p:cNvSpPr/>
                <p:nvPr/>
              </p:nvSpPr>
              <p:spPr>
                <a:xfrm>
                  <a:off x="3636000" y="2694960"/>
                  <a:ext cx="57240" cy="333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Line 60"/>
                <p:cNvSpPr/>
                <p:nvPr/>
              </p:nvSpPr>
              <p:spPr>
                <a:xfrm>
                  <a:off x="3529800" y="2813760"/>
                  <a:ext cx="1440" cy="13464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Line 61"/>
                <p:cNvSpPr/>
                <p:nvPr/>
              </p:nvSpPr>
              <p:spPr>
                <a:xfrm>
                  <a:off x="3582000" y="2770920"/>
                  <a:ext cx="1800" cy="21096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2" name="Line 62"/>
            <p:cNvSpPr/>
            <p:nvPr/>
          </p:nvSpPr>
          <p:spPr>
            <a:xfrm flipH="1">
              <a:off x="1381320" y="2368440"/>
              <a:ext cx="2670480" cy="108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63"/>
            <p:cNvSpPr/>
            <p:nvPr/>
          </p:nvSpPr>
          <p:spPr>
            <a:xfrm flipH="1">
              <a:off x="1381320" y="3370320"/>
              <a:ext cx="2670480" cy="108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64"/>
            <p:cNvSpPr/>
            <p:nvPr/>
          </p:nvSpPr>
          <p:spPr>
            <a:xfrm flipH="1">
              <a:off x="5833440" y="2368440"/>
              <a:ext cx="1068480" cy="108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65"/>
            <p:cNvSpPr/>
            <p:nvPr/>
          </p:nvSpPr>
          <p:spPr>
            <a:xfrm flipH="1">
              <a:off x="5833440" y="3370320"/>
              <a:ext cx="1068480" cy="108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66"/>
            <p:cNvGrpSpPr/>
            <p:nvPr/>
          </p:nvGrpSpPr>
          <p:grpSpPr>
            <a:xfrm>
              <a:off x="6902280" y="2368440"/>
              <a:ext cx="355680" cy="1001160"/>
              <a:chOff x="6902280" y="2368440"/>
              <a:chExt cx="355680" cy="1001160"/>
            </a:xfrm>
          </p:grpSpPr>
          <p:sp>
            <p:nvSpPr>
              <p:cNvPr id="207" name="Line 67"/>
              <p:cNvSpPr/>
              <p:nvPr/>
            </p:nvSpPr>
            <p:spPr>
              <a:xfrm flipH="1">
                <a:off x="6902280" y="2534760"/>
                <a:ext cx="3556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Line 68"/>
              <p:cNvSpPr/>
              <p:nvPr/>
            </p:nvSpPr>
            <p:spPr>
              <a:xfrm flipH="1">
                <a:off x="6902280" y="3203280"/>
                <a:ext cx="3556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69"/>
              <p:cNvSpPr/>
              <p:nvPr/>
            </p:nvSpPr>
            <p:spPr>
              <a:xfrm flipV="1">
                <a:off x="6902280" y="2368440"/>
                <a:ext cx="1800" cy="1663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70"/>
              <p:cNvSpPr/>
              <p:nvPr/>
            </p:nvSpPr>
            <p:spPr>
              <a:xfrm flipV="1">
                <a:off x="6902280" y="3203280"/>
                <a:ext cx="1800" cy="1663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71"/>
            <p:cNvGrpSpPr/>
            <p:nvPr/>
          </p:nvGrpSpPr>
          <p:grpSpPr>
            <a:xfrm>
              <a:off x="1022400" y="2368440"/>
              <a:ext cx="360360" cy="1001160"/>
              <a:chOff x="1022400" y="2368440"/>
              <a:chExt cx="360360" cy="1001160"/>
            </a:xfrm>
          </p:grpSpPr>
          <p:sp>
            <p:nvSpPr>
              <p:cNvPr id="212" name="Line 72"/>
              <p:cNvSpPr/>
              <p:nvPr/>
            </p:nvSpPr>
            <p:spPr>
              <a:xfrm>
                <a:off x="1022400" y="2534760"/>
                <a:ext cx="3589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73"/>
              <p:cNvSpPr/>
              <p:nvPr/>
            </p:nvSpPr>
            <p:spPr>
              <a:xfrm>
                <a:off x="1022400" y="3203280"/>
                <a:ext cx="3589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Line 74"/>
              <p:cNvSpPr/>
              <p:nvPr/>
            </p:nvSpPr>
            <p:spPr>
              <a:xfrm flipV="1">
                <a:off x="1381320" y="2368440"/>
                <a:ext cx="1440" cy="1663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75"/>
              <p:cNvSpPr/>
              <p:nvPr/>
            </p:nvSpPr>
            <p:spPr>
              <a:xfrm flipV="1">
                <a:off x="1381320" y="3203280"/>
                <a:ext cx="1440" cy="1663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Rectangle 76"/>
            <p:cNvSpPr/>
            <p:nvPr/>
          </p:nvSpPr>
          <p:spPr>
            <a:xfrm>
              <a:off x="378000" y="1984320"/>
              <a:ext cx="1427040" cy="33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77"/>
            <p:cNvSpPr/>
            <p:nvPr/>
          </p:nvSpPr>
          <p:spPr>
            <a:xfrm>
              <a:off x="417600" y="1987560"/>
              <a:ext cx="1375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"Фаза" 220 В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78"/>
            <p:cNvSpPr/>
            <p:nvPr/>
          </p:nvSpPr>
          <p:spPr>
            <a:xfrm>
              <a:off x="1763640" y="19875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79"/>
            <p:cNvSpPr/>
            <p:nvPr/>
          </p:nvSpPr>
          <p:spPr>
            <a:xfrm>
              <a:off x="324000" y="3406680"/>
              <a:ext cx="1423800" cy="33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80"/>
            <p:cNvSpPr/>
            <p:nvPr/>
          </p:nvSpPr>
          <p:spPr>
            <a:xfrm>
              <a:off x="356040" y="3409920"/>
              <a:ext cx="1401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"Ноль" 220 В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81"/>
            <p:cNvSpPr/>
            <p:nvPr/>
          </p:nvSpPr>
          <p:spPr>
            <a:xfrm>
              <a:off x="1714680" y="34099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82"/>
            <p:cNvSpPr/>
            <p:nvPr/>
          </p:nvSpPr>
          <p:spPr>
            <a:xfrm>
              <a:off x="2765880" y="3592440"/>
              <a:ext cx="652320" cy="33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83"/>
            <p:cNvSpPr/>
            <p:nvPr/>
          </p:nvSpPr>
          <p:spPr>
            <a:xfrm>
              <a:off x="2765880" y="35956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84"/>
            <p:cNvSpPr/>
            <p:nvPr/>
          </p:nvSpPr>
          <p:spPr>
            <a:xfrm>
              <a:off x="2889720" y="3682800"/>
              <a:ext cx="12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п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85"/>
            <p:cNvSpPr/>
            <p:nvPr/>
          </p:nvSpPr>
          <p:spPr>
            <a:xfrm>
              <a:off x="3024720" y="35956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86"/>
            <p:cNvSpPr/>
            <p:nvPr/>
          </p:nvSpPr>
          <p:spPr>
            <a:xfrm>
              <a:off x="2076840" y="1773360"/>
              <a:ext cx="1778400" cy="33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87"/>
            <p:cNvSpPr/>
            <p:nvPr/>
          </p:nvSpPr>
          <p:spPr>
            <a:xfrm>
              <a:off x="2076840" y="17762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ff3300"/>
                  </a:solidFill>
                  <a:latin typeface="Arial"/>
                </a:rPr>
                <a:t>J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88"/>
            <p:cNvSpPr/>
            <p:nvPr/>
          </p:nvSpPr>
          <p:spPr>
            <a:xfrm>
              <a:off x="2200680" y="1863720"/>
              <a:ext cx="12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3300"/>
                  </a:solidFill>
                  <a:latin typeface="Arial"/>
                </a:rPr>
                <a:t>п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89"/>
            <p:cNvSpPr/>
            <p:nvPr/>
          </p:nvSpPr>
          <p:spPr>
            <a:xfrm>
              <a:off x="2333520" y="1776240"/>
              <a:ext cx="37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ff3300"/>
                  </a:solidFill>
                  <a:latin typeface="Arial"/>
                </a:rPr>
                <a:t>+ (J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90"/>
            <p:cNvSpPr/>
            <p:nvPr/>
          </p:nvSpPr>
          <p:spPr>
            <a:xfrm>
              <a:off x="2732760" y="1863720"/>
              <a:ext cx="17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3300"/>
                  </a:solidFill>
                  <a:latin typeface="Arial"/>
                </a:rPr>
                <a:t>С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91"/>
            <p:cNvSpPr/>
            <p:nvPr/>
          </p:nvSpPr>
          <p:spPr>
            <a:xfrm>
              <a:off x="2923920" y="1776240"/>
              <a:ext cx="12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ff3300"/>
                  </a:solidFill>
                  <a:latin typeface="Arial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92"/>
            <p:cNvSpPr/>
            <p:nvPr/>
          </p:nvSpPr>
          <p:spPr>
            <a:xfrm>
              <a:off x="3057840" y="17762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ff3300"/>
                  </a:solidFill>
                  <a:latin typeface="Arial"/>
                </a:rPr>
                <a:t>J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93"/>
            <p:cNvSpPr/>
            <p:nvPr/>
          </p:nvSpPr>
          <p:spPr>
            <a:xfrm>
              <a:off x="3183480" y="1863720"/>
              <a:ext cx="17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3300"/>
                  </a:solidFill>
                  <a:latin typeface="Arial"/>
                </a:rPr>
                <a:t>С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94"/>
            <p:cNvSpPr/>
            <p:nvPr/>
          </p:nvSpPr>
          <p:spPr>
            <a:xfrm>
              <a:off x="3375000" y="17762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ff3300"/>
                  </a:solidFill>
                  <a:latin typeface="Arial"/>
                </a:rPr>
                <a:t>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95"/>
            <p:cNvSpPr/>
            <p:nvPr/>
          </p:nvSpPr>
          <p:spPr>
            <a:xfrm>
              <a:off x="3451680" y="177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Group 96"/>
            <p:cNvGrpSpPr/>
            <p:nvPr/>
          </p:nvGrpSpPr>
          <p:grpSpPr>
            <a:xfrm>
              <a:off x="2449800" y="2111400"/>
              <a:ext cx="1071720" cy="183600"/>
              <a:chOff x="2449800" y="2111400"/>
              <a:chExt cx="1071720" cy="183600"/>
            </a:xfrm>
          </p:grpSpPr>
          <p:sp>
            <p:nvSpPr>
              <p:cNvPr id="237" name="Line 97"/>
              <p:cNvSpPr/>
              <p:nvPr/>
            </p:nvSpPr>
            <p:spPr>
              <a:xfrm>
                <a:off x="2449800" y="2201400"/>
                <a:ext cx="878040" cy="1080"/>
              </a:xfrm>
              <a:prstGeom prst="line">
                <a:avLst/>
              </a:prstGeom>
              <a:ln w="176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98"/>
              <p:cNvSpPr/>
              <p:nvPr/>
            </p:nvSpPr>
            <p:spPr>
              <a:xfrm>
                <a:off x="3323160" y="2111400"/>
                <a:ext cx="198360" cy="183600"/>
              </a:xfrm>
              <a:custGeom>
                <a:avLst/>
                <a:gdLst/>
                <a:ahLst/>
                <a:rect l="l" t="t" r="r" b="b"/>
                <a:pathLst>
                  <a:path w="125" h="116">
                    <a:moveTo>
                      <a:pt x="0" y="116"/>
                    </a:moveTo>
                    <a:lnTo>
                      <a:pt x="125" y="57"/>
                    </a:lnTo>
                    <a:lnTo>
                      <a:pt x="0" y="0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99"/>
            <p:cNvGrpSpPr/>
            <p:nvPr/>
          </p:nvGrpSpPr>
          <p:grpSpPr>
            <a:xfrm>
              <a:off x="2449800" y="3446280"/>
              <a:ext cx="1068120" cy="182160"/>
              <a:chOff x="2449800" y="3446280"/>
              <a:chExt cx="1068120" cy="182160"/>
            </a:xfrm>
          </p:grpSpPr>
          <p:sp>
            <p:nvSpPr>
              <p:cNvPr id="240" name="Line 100"/>
              <p:cNvSpPr/>
              <p:nvPr/>
            </p:nvSpPr>
            <p:spPr>
              <a:xfrm flipH="1">
                <a:off x="2638440" y="3536640"/>
                <a:ext cx="879480" cy="1080"/>
              </a:xfrm>
              <a:prstGeom prst="line">
                <a:avLst/>
              </a:prstGeom>
              <a:ln w="176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01"/>
              <p:cNvSpPr/>
              <p:nvPr/>
            </p:nvSpPr>
            <p:spPr>
              <a:xfrm>
                <a:off x="2449800" y="3446280"/>
                <a:ext cx="198720" cy="182160"/>
              </a:xfrm>
              <a:custGeom>
                <a:avLst/>
                <a:gdLst/>
                <a:ahLst/>
                <a:rect l="l" t="t" r="r" b="b"/>
                <a:pathLst>
                  <a:path w="125" h="115">
                    <a:moveTo>
                      <a:pt x="125" y="0"/>
                    </a:moveTo>
                    <a:lnTo>
                      <a:pt x="0" y="59"/>
                    </a:lnTo>
                    <a:lnTo>
                      <a:pt x="125" y="115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Rectangle 102"/>
            <p:cNvSpPr/>
            <p:nvPr/>
          </p:nvSpPr>
          <p:spPr>
            <a:xfrm>
              <a:off x="3848760" y="3429000"/>
              <a:ext cx="355680" cy="24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03"/>
            <p:cNvSpPr/>
            <p:nvPr/>
          </p:nvSpPr>
          <p:spPr>
            <a:xfrm>
              <a:off x="3901680" y="343836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04"/>
            <p:cNvSpPr/>
            <p:nvPr/>
          </p:nvSpPr>
          <p:spPr>
            <a:xfrm>
              <a:off x="4065840" y="35193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05"/>
            <p:cNvSpPr/>
            <p:nvPr/>
          </p:nvSpPr>
          <p:spPr>
            <a:xfrm>
              <a:off x="4149360" y="35193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06"/>
            <p:cNvSpPr/>
            <p:nvPr/>
          </p:nvSpPr>
          <p:spPr>
            <a:xfrm>
              <a:off x="5655960" y="2035080"/>
              <a:ext cx="36504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07"/>
            <p:cNvSpPr/>
            <p:nvPr/>
          </p:nvSpPr>
          <p:spPr>
            <a:xfrm>
              <a:off x="5711760" y="203832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08"/>
            <p:cNvSpPr/>
            <p:nvPr/>
          </p:nvSpPr>
          <p:spPr>
            <a:xfrm>
              <a:off x="5876280" y="21207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09"/>
            <p:cNvSpPr/>
            <p:nvPr/>
          </p:nvSpPr>
          <p:spPr>
            <a:xfrm>
              <a:off x="5959440" y="21207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10"/>
            <p:cNvSpPr/>
            <p:nvPr/>
          </p:nvSpPr>
          <p:spPr>
            <a:xfrm>
              <a:off x="5682600" y="3432240"/>
              <a:ext cx="365400" cy="28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11"/>
            <p:cNvSpPr/>
            <p:nvPr/>
          </p:nvSpPr>
          <p:spPr>
            <a:xfrm>
              <a:off x="5740560" y="343512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12"/>
            <p:cNvSpPr/>
            <p:nvPr/>
          </p:nvSpPr>
          <p:spPr>
            <a:xfrm>
              <a:off x="5903280" y="35161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113"/>
            <p:cNvSpPr/>
            <p:nvPr/>
          </p:nvSpPr>
          <p:spPr>
            <a:xfrm>
              <a:off x="5988240" y="35161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14"/>
            <p:cNvSpPr/>
            <p:nvPr/>
          </p:nvSpPr>
          <p:spPr>
            <a:xfrm>
              <a:off x="4764960" y="1866960"/>
              <a:ext cx="363240" cy="29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15"/>
            <p:cNvSpPr/>
            <p:nvPr/>
          </p:nvSpPr>
          <p:spPr>
            <a:xfrm>
              <a:off x="4839480" y="18716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16"/>
            <p:cNvSpPr/>
            <p:nvPr/>
          </p:nvSpPr>
          <p:spPr>
            <a:xfrm>
              <a:off x="4966200" y="1954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17"/>
            <p:cNvSpPr/>
            <p:nvPr/>
          </p:nvSpPr>
          <p:spPr>
            <a:xfrm>
              <a:off x="5049360" y="19540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18"/>
            <p:cNvSpPr/>
            <p:nvPr/>
          </p:nvSpPr>
          <p:spPr>
            <a:xfrm>
              <a:off x="4764960" y="3406680"/>
              <a:ext cx="363240" cy="29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19"/>
            <p:cNvSpPr/>
            <p:nvPr/>
          </p:nvSpPr>
          <p:spPr>
            <a:xfrm>
              <a:off x="4839480" y="34099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20"/>
            <p:cNvSpPr/>
            <p:nvPr/>
          </p:nvSpPr>
          <p:spPr>
            <a:xfrm>
              <a:off x="4966200" y="34909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21"/>
            <p:cNvSpPr/>
            <p:nvPr/>
          </p:nvSpPr>
          <p:spPr>
            <a:xfrm>
              <a:off x="5049360" y="34909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122"/>
            <p:cNvGrpSpPr/>
            <p:nvPr/>
          </p:nvGrpSpPr>
          <p:grpSpPr>
            <a:xfrm>
              <a:off x="5954040" y="2444760"/>
              <a:ext cx="357480" cy="427680"/>
              <a:chOff x="5954040" y="2444760"/>
              <a:chExt cx="357480" cy="427680"/>
            </a:xfrm>
          </p:grpSpPr>
          <p:grpSp>
            <p:nvGrpSpPr>
              <p:cNvPr id="263" name="Group 123"/>
              <p:cNvGrpSpPr/>
              <p:nvPr/>
            </p:nvGrpSpPr>
            <p:grpSpPr>
              <a:xfrm>
                <a:off x="5954400" y="2690280"/>
                <a:ext cx="354960" cy="182160"/>
                <a:chOff x="5954400" y="2690280"/>
                <a:chExt cx="354960" cy="182160"/>
              </a:xfrm>
            </p:grpSpPr>
            <p:sp>
              <p:nvSpPr>
                <p:cNvPr id="264" name="Line 124"/>
                <p:cNvSpPr/>
                <p:nvPr/>
              </p:nvSpPr>
              <p:spPr>
                <a:xfrm flipH="1">
                  <a:off x="6142680" y="2778840"/>
                  <a:ext cx="166680" cy="1440"/>
                </a:xfrm>
                <a:prstGeom prst="line">
                  <a:avLst/>
                </a:prstGeom>
                <a:ln w="176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Freeform 125"/>
                <p:cNvSpPr/>
                <p:nvPr/>
              </p:nvSpPr>
              <p:spPr>
                <a:xfrm>
                  <a:off x="5954400" y="2690280"/>
                  <a:ext cx="198360" cy="182160"/>
                </a:xfrm>
                <a:custGeom>
                  <a:avLst/>
                  <a:gdLst/>
                  <a:ahLst/>
                  <a:rect l="l" t="t" r="r" b="b"/>
                  <a:pathLst>
                    <a:path w="125" h="115">
                      <a:moveTo>
                        <a:pt x="125" y="0"/>
                      </a:moveTo>
                      <a:lnTo>
                        <a:pt x="0" y="58"/>
                      </a:lnTo>
                      <a:lnTo>
                        <a:pt x="125" y="115"/>
                      </a:lnTo>
                      <a:lnTo>
                        <a:pt x="125" y="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" name="Line 126"/>
              <p:cNvSpPr/>
              <p:nvPr/>
            </p:nvSpPr>
            <p:spPr>
              <a:xfrm>
                <a:off x="6309720" y="2444760"/>
                <a:ext cx="1800" cy="334440"/>
              </a:xfrm>
              <a:prstGeom prst="line">
                <a:avLst/>
              </a:prstGeom>
              <a:ln w="176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127"/>
              <p:cNvSpPr/>
              <p:nvPr/>
            </p:nvSpPr>
            <p:spPr>
              <a:xfrm flipH="1">
                <a:off x="5954040" y="2444760"/>
                <a:ext cx="355320" cy="1080"/>
              </a:xfrm>
              <a:prstGeom prst="line">
                <a:avLst/>
              </a:prstGeom>
              <a:ln w="176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Rectangle 128"/>
            <p:cNvSpPr/>
            <p:nvPr/>
          </p:nvSpPr>
          <p:spPr>
            <a:xfrm>
              <a:off x="4623480" y="2466720"/>
              <a:ext cx="473040" cy="3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29"/>
            <p:cNvSpPr/>
            <p:nvPr/>
          </p:nvSpPr>
          <p:spPr>
            <a:xfrm>
              <a:off x="4623480" y="24699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990000"/>
                  </a:solidFill>
                  <a:latin typeface="Arial"/>
                </a:rPr>
                <a:t>J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30"/>
            <p:cNvSpPr/>
            <p:nvPr/>
          </p:nvSpPr>
          <p:spPr>
            <a:xfrm>
              <a:off x="4750560" y="2557440"/>
              <a:ext cx="17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990000"/>
                  </a:solidFill>
                  <a:latin typeface="Arial"/>
                </a:rPr>
                <a:t>C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31"/>
            <p:cNvSpPr/>
            <p:nvPr/>
          </p:nvSpPr>
          <p:spPr>
            <a:xfrm>
              <a:off x="4942800" y="24699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32"/>
            <p:cNvSpPr/>
            <p:nvPr/>
          </p:nvSpPr>
          <p:spPr>
            <a:xfrm>
              <a:off x="6378120" y="2501640"/>
              <a:ext cx="409680" cy="3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33"/>
            <p:cNvSpPr/>
            <p:nvPr/>
          </p:nvSpPr>
          <p:spPr>
            <a:xfrm>
              <a:off x="6378120" y="25066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990000"/>
                  </a:solidFill>
                  <a:latin typeface="Arial"/>
                </a:rPr>
                <a:t>J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34"/>
            <p:cNvSpPr/>
            <p:nvPr/>
          </p:nvSpPr>
          <p:spPr>
            <a:xfrm>
              <a:off x="6505200" y="2593800"/>
              <a:ext cx="17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990000"/>
                  </a:solidFill>
                  <a:latin typeface="Arial"/>
                </a:rPr>
                <a:t>C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35"/>
            <p:cNvSpPr/>
            <p:nvPr/>
          </p:nvSpPr>
          <p:spPr>
            <a:xfrm>
              <a:off x="6697080" y="25066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36"/>
            <p:cNvSpPr/>
            <p:nvPr/>
          </p:nvSpPr>
          <p:spPr>
            <a:xfrm>
              <a:off x="6430320" y="3573360"/>
              <a:ext cx="652680" cy="33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37"/>
            <p:cNvSpPr/>
            <p:nvPr/>
          </p:nvSpPr>
          <p:spPr>
            <a:xfrm>
              <a:off x="6430320" y="35766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38"/>
            <p:cNvSpPr/>
            <p:nvPr/>
          </p:nvSpPr>
          <p:spPr>
            <a:xfrm>
              <a:off x="6554160" y="3663720"/>
              <a:ext cx="12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п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39"/>
            <p:cNvSpPr/>
            <p:nvPr/>
          </p:nvSpPr>
          <p:spPr>
            <a:xfrm>
              <a:off x="6689160" y="35766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Group 140"/>
            <p:cNvGrpSpPr/>
            <p:nvPr/>
          </p:nvGrpSpPr>
          <p:grpSpPr>
            <a:xfrm>
              <a:off x="6189120" y="3446280"/>
              <a:ext cx="712440" cy="182160"/>
              <a:chOff x="6189120" y="3446280"/>
              <a:chExt cx="712440" cy="182160"/>
            </a:xfrm>
          </p:grpSpPr>
          <p:sp>
            <p:nvSpPr>
              <p:cNvPr id="281" name="Line 141"/>
              <p:cNvSpPr/>
              <p:nvPr/>
            </p:nvSpPr>
            <p:spPr>
              <a:xfrm flipH="1">
                <a:off x="6377760" y="3536640"/>
                <a:ext cx="523800" cy="10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142"/>
              <p:cNvSpPr/>
              <p:nvPr/>
            </p:nvSpPr>
            <p:spPr>
              <a:xfrm>
                <a:off x="6189120" y="3446280"/>
                <a:ext cx="198360" cy="182160"/>
              </a:xfrm>
              <a:custGeom>
                <a:avLst/>
                <a:gdLst/>
                <a:ahLst/>
                <a:rect l="l" t="t" r="r" b="b"/>
                <a:pathLst>
                  <a:path w="125" h="115">
                    <a:moveTo>
                      <a:pt x="125" y="0"/>
                    </a:moveTo>
                    <a:lnTo>
                      <a:pt x="0" y="59"/>
                    </a:lnTo>
                    <a:lnTo>
                      <a:pt x="125" y="115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143"/>
            <p:cNvGrpSpPr/>
            <p:nvPr/>
          </p:nvGrpSpPr>
          <p:grpSpPr>
            <a:xfrm>
              <a:off x="6200280" y="2103480"/>
              <a:ext cx="717480" cy="182160"/>
              <a:chOff x="6200280" y="2103480"/>
              <a:chExt cx="717480" cy="182160"/>
            </a:xfrm>
          </p:grpSpPr>
          <p:sp>
            <p:nvSpPr>
              <p:cNvPr id="284" name="Line 144"/>
              <p:cNvSpPr/>
              <p:nvPr/>
            </p:nvSpPr>
            <p:spPr>
              <a:xfrm>
                <a:off x="6200280" y="2193480"/>
                <a:ext cx="523800" cy="10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145"/>
              <p:cNvSpPr/>
              <p:nvPr/>
            </p:nvSpPr>
            <p:spPr>
              <a:xfrm>
                <a:off x="6719400" y="2103480"/>
                <a:ext cx="198360" cy="182160"/>
              </a:xfrm>
              <a:custGeom>
                <a:avLst/>
                <a:gdLst/>
                <a:ahLst/>
                <a:rect l="l" t="t" r="r" b="b"/>
                <a:pathLst>
                  <a:path w="125" h="115">
                    <a:moveTo>
                      <a:pt x="0" y="115"/>
                    </a:moveTo>
                    <a:lnTo>
                      <a:pt x="125" y="59"/>
                    </a:lnTo>
                    <a:lnTo>
                      <a:pt x="0" y="0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Rectangle 146"/>
            <p:cNvSpPr/>
            <p:nvPr/>
          </p:nvSpPr>
          <p:spPr>
            <a:xfrm>
              <a:off x="6219360" y="1787400"/>
              <a:ext cx="649440" cy="33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47"/>
            <p:cNvSpPr/>
            <p:nvPr/>
          </p:nvSpPr>
          <p:spPr>
            <a:xfrm>
              <a:off x="6435360" y="17906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48"/>
            <p:cNvSpPr/>
            <p:nvPr/>
          </p:nvSpPr>
          <p:spPr>
            <a:xfrm>
              <a:off x="6561360" y="187776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49"/>
            <p:cNvSpPr/>
            <p:nvPr/>
          </p:nvSpPr>
          <p:spPr>
            <a:xfrm>
              <a:off x="6652800" y="1790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Group 150"/>
            <p:cNvGrpSpPr/>
            <p:nvPr/>
          </p:nvGrpSpPr>
          <p:grpSpPr>
            <a:xfrm>
              <a:off x="4183920" y="2444760"/>
              <a:ext cx="360360" cy="427680"/>
              <a:chOff x="4183920" y="2444760"/>
              <a:chExt cx="360360" cy="427680"/>
            </a:xfrm>
          </p:grpSpPr>
          <p:grpSp>
            <p:nvGrpSpPr>
              <p:cNvPr id="291" name="Group 151"/>
              <p:cNvGrpSpPr/>
              <p:nvPr/>
            </p:nvGrpSpPr>
            <p:grpSpPr>
              <a:xfrm>
                <a:off x="4183920" y="2690280"/>
                <a:ext cx="358560" cy="182160"/>
                <a:chOff x="4183920" y="2690280"/>
                <a:chExt cx="358560" cy="182160"/>
              </a:xfrm>
            </p:grpSpPr>
            <p:sp>
              <p:nvSpPr>
                <p:cNvPr id="292" name="Line 152"/>
                <p:cNvSpPr/>
                <p:nvPr/>
              </p:nvSpPr>
              <p:spPr>
                <a:xfrm flipH="1">
                  <a:off x="4372560" y="2778840"/>
                  <a:ext cx="169920" cy="1440"/>
                </a:xfrm>
                <a:prstGeom prst="line">
                  <a:avLst/>
                </a:prstGeom>
                <a:ln w="176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Freeform 153"/>
                <p:cNvSpPr/>
                <p:nvPr/>
              </p:nvSpPr>
              <p:spPr>
                <a:xfrm>
                  <a:off x="4183920" y="2690280"/>
                  <a:ext cx="198360" cy="182160"/>
                </a:xfrm>
                <a:custGeom>
                  <a:avLst/>
                  <a:gdLst/>
                  <a:ahLst/>
                  <a:rect l="l" t="t" r="r" b="b"/>
                  <a:pathLst>
                    <a:path w="125" h="115">
                      <a:moveTo>
                        <a:pt x="125" y="0"/>
                      </a:moveTo>
                      <a:lnTo>
                        <a:pt x="0" y="58"/>
                      </a:lnTo>
                      <a:lnTo>
                        <a:pt x="125" y="115"/>
                      </a:lnTo>
                      <a:lnTo>
                        <a:pt x="125" y="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4" name="Line 154"/>
              <p:cNvSpPr/>
              <p:nvPr/>
            </p:nvSpPr>
            <p:spPr>
              <a:xfrm>
                <a:off x="4542480" y="2444760"/>
                <a:ext cx="1800" cy="334440"/>
              </a:xfrm>
              <a:prstGeom prst="line">
                <a:avLst/>
              </a:prstGeom>
              <a:ln w="176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Line 155"/>
              <p:cNvSpPr/>
              <p:nvPr/>
            </p:nvSpPr>
            <p:spPr>
              <a:xfrm flipH="1">
                <a:off x="4183920" y="2444760"/>
                <a:ext cx="358560" cy="1080"/>
              </a:xfrm>
              <a:prstGeom prst="line">
                <a:avLst/>
              </a:prstGeom>
              <a:ln w="176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407520" y="2276280"/>
            <a:ext cx="8736120" cy="40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пряженность.эл.поля   =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Напряжени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расстояни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5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пряженность.эл.поля   =   </a:t>
            </a:r>
            <a:r>
              <a:rPr b="1" lang="ru-RU" sz="2800" spc="-1" strike="noStrike" u="sng">
                <a:solidFill>
                  <a:srgbClr val="990000"/>
                </a:solidFill>
                <a:uFillTx/>
                <a:latin typeface="Arial"/>
              </a:rPr>
              <a:t>220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440 В/м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0,5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м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5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пряженность.эл.поля   =   </a:t>
            </a:r>
            <a:r>
              <a:rPr b="1" lang="ru-RU" sz="2800" spc="-1" strike="noStrike" u="sng">
                <a:solidFill>
                  <a:srgbClr val="990000"/>
                </a:solidFill>
                <a:uFillTx/>
                <a:latin typeface="Arial"/>
              </a:rPr>
              <a:t>220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1 кВ/м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0,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м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1763640" y="1700280"/>
            <a:ext cx="575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4"/>
          <p:cNvSpPr/>
          <p:nvPr/>
        </p:nvSpPr>
        <p:spPr>
          <a:xfrm>
            <a:off x="179280" y="189000"/>
            <a:ext cx="1079640" cy="792000"/>
          </a:xfrm>
          <a:prstGeom prst="roundRect">
            <a:avLst>
              <a:gd name="adj" fmla="val 34671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E9E3-1A78-45D8-AC6C-2D04EFE60E6E}" type="slidenum">
              <a:rPr b="1" lang="ru-RU" sz="4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6312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Электрические поля</a:t>
            </a:r>
            <a:br>
              <a:rPr sz="3200"/>
            </a:b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промчасты 50 Гц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900000" y="1268280"/>
            <a:ext cx="7631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Оценка уровня </a:t>
            </a:r>
            <a:br>
              <a:rPr sz="2800"/>
            </a:b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электрического поля промчасты 50 Г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32000" y="549360"/>
            <a:ext cx="75391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Информационные материалы семинара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179280" y="189000"/>
            <a:ext cx="1079640" cy="792000"/>
          </a:xfrm>
          <a:prstGeom prst="roundRect">
            <a:avLst>
              <a:gd name="adj" fmla="val 34671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6007-A2F0-41D7-9ECC-F0CCB36A40A5}" type="slidenum">
              <a:rPr b="1" lang="ru-RU" sz="4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2852280"/>
            <a:ext cx="871380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990000"/>
                </a:solidFill>
                <a:uFillTx/>
                <a:latin typeface="Times New Roman"/>
              </a:rPr>
              <a:t>ciklon.ru</a:t>
            </a:r>
            <a:r>
              <a:rPr b="1" lang="ru-RU" sz="5400" spc="-1" strike="noStrike" u="sng">
                <a:solidFill>
                  <a:srgbClr val="990000"/>
                </a:solidFill>
                <a:uFillTx/>
                <a:latin typeface="Times New Roman"/>
              </a:rPr>
              <a:t>/</a:t>
            </a:r>
            <a:r>
              <a:rPr b="1" lang="en-US" sz="5400" spc="-1" strike="noStrike" u="sng">
                <a:solidFill>
                  <a:srgbClr val="990000"/>
                </a:solidFill>
                <a:uFillTx/>
                <a:latin typeface="Times New Roman"/>
              </a:rPr>
              <a:t>seminar</a:t>
            </a:r>
            <a:r>
              <a:rPr b="1" lang="ru-RU" sz="5400" spc="-1" strike="noStrike" u="sng">
                <a:solidFill>
                  <a:srgbClr val="990000"/>
                </a:solidFill>
                <a:uFillTx/>
                <a:latin typeface="Times New Roman"/>
              </a:rPr>
              <a:t>/151113</a:t>
            </a:r>
            <a:endParaRPr b="0" lang="en-US" sz="5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07520" y="2276280"/>
            <a:ext cx="85568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же при использовании жесткой нормы на допустимую напряженность  электрического поля для населения 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(500 В/м)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овни электрических полей промчастоты 50 Гц никогда не превысят эту норму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если работник будет находитс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источника этого электрического поля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на расстоянии 0,5 м и более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2" name="AutoShape 4"/>
          <p:cNvSpPr/>
          <p:nvPr/>
        </p:nvSpPr>
        <p:spPr>
          <a:xfrm>
            <a:off x="179280" y="189000"/>
            <a:ext cx="1079640" cy="792000"/>
          </a:xfrm>
          <a:prstGeom prst="roundRect">
            <a:avLst>
              <a:gd name="adj" fmla="val 34671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83A8-C22B-4680-B6BB-15EF63F8570A}" type="slidenum">
              <a:rPr b="1" lang="ru-RU" sz="4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63128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Выводы из оценки уровней , 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важные для идентификации  электрических полей промчастоты 50 Гц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Методические материалы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708360" y="1294920"/>
            <a:ext cx="52070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правочное руководство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Методы снижения электрических и магнитных полей промчастоты 50 Гц»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___________</a:t>
            </a: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ФГУП «НПП «Циклон-Тест», 2001 г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______________</a:t>
            </a: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лектронная версия – на странице</a:t>
            </a:r>
            <a:br>
              <a:rPr sz="2000"/>
            </a:b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ciklon.ru/centre/metod.htm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6" name="AutoShape 4"/>
          <p:cNvSpPr/>
          <p:nvPr/>
        </p:nvSpPr>
        <p:spPr>
          <a:xfrm>
            <a:off x="179280" y="189000"/>
            <a:ext cx="1079640" cy="792000"/>
          </a:xfrm>
          <a:prstGeom prst="roundRect">
            <a:avLst>
              <a:gd name="adj" fmla="val 34671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A195-984A-4C75-9F6F-D7A711F47163}" type="slidenum">
              <a:rPr b="1" lang="ru-RU" sz="4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1" descr="Книга-1 5х7 (600-315)"/>
          <p:cNvPicPr/>
          <p:nvPr/>
        </p:nvPicPr>
        <p:blipFill>
          <a:blip r:embed="rId1"/>
          <a:stretch/>
        </p:blipFill>
        <p:spPr>
          <a:xfrm>
            <a:off x="179280" y="1052640"/>
            <a:ext cx="411984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55784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Электромагнитные поля (излучения) диапазонов частот 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10 – 30 кГц , 30 кГц – 3 МГц, </a:t>
            </a:r>
            <a:br>
              <a:rPr sz="2800"/>
            </a:b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(основные источники)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9" name="AutoShape 3"/>
          <p:cNvSpPr/>
          <p:nvPr/>
        </p:nvSpPr>
        <p:spPr>
          <a:xfrm>
            <a:off x="179280" y="189000"/>
            <a:ext cx="1079640" cy="792000"/>
          </a:xfrm>
          <a:prstGeom prst="roundRect">
            <a:avLst>
              <a:gd name="adj" fmla="val 34671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EAAB-FCA7-442E-BF72-82715113CBDB}" type="slidenum">
              <a:rPr b="1" lang="ru-RU" sz="4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58560" y="2060640"/>
            <a:ext cx="8461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ременное технологическое оборудование, современная осветительная аппаратура, ноутбуки, мониторы с «плоскими»  экранами, принтеры,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могут иметь высокий уровен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электрических и магнитных полей данного диапазона частот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из-за наличия в них импульсных источников питания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59312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Номы по электромагнитной безопасности (ЭМБ) и нормы по электромагнитной совместимости (ЭМС)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78920" y="1773000"/>
            <a:ext cx="8766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ужно знать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ля технических средств,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 котор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 своему функциональному назначению 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не являются источника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нешних сигналов того или иного диапазона частот, но в них присутствуют генераторы электромагнитных колебаний, в дополнение к нормам электромагнитной безопасности (ЭМБ) 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существуют нормы электромагнитной совместимости (ЭМС)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рмы ЭМС 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регламентирую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течественные 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стандарты ГОСТ 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 электромагнитной совместимости (гармонизированные, в большинстве случаев, с международными)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179280" y="189000"/>
            <a:ext cx="1079640" cy="792000"/>
          </a:xfrm>
          <a:prstGeom prst="roundRect">
            <a:avLst>
              <a:gd name="adj" fmla="val 34671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38A6-5434-456F-8B5D-2ECD6B0D6D5E}" type="slidenum">
              <a:rPr b="1" lang="ru-RU" sz="4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7556400" cy="117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Соотношение </a:t>
            </a:r>
            <a:br>
              <a:rPr sz="3200"/>
            </a:b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норм ЭМБ и ЭМС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391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рмы ЭМ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чинаются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 частот 30 МГц и выш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эти нормы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в сотни раз более жестк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чем нормы ЭМБ, используемые при гигиенической оценке условий труда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ответственно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не излучающих технических средст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лектромагнитные поля радиочастотного диапазона (более 30 МГц)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можно не принимать во вниман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оценке условий труда, так как к этим полям предъявляются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в сотни раз более жесткие требова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 нормам электромагнитной совместимости (ЭМС)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6" name="AutoShape 4"/>
          <p:cNvSpPr/>
          <p:nvPr/>
        </p:nvSpPr>
        <p:spPr>
          <a:xfrm>
            <a:off x="179280" y="189000"/>
            <a:ext cx="1079640" cy="792000"/>
          </a:xfrm>
          <a:prstGeom prst="roundRect">
            <a:avLst>
              <a:gd name="adj" fmla="val 34671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A2AB-2AB5-4D47-A500-ADB044FB518B}" type="slidenum">
              <a:rPr b="1" lang="ru-RU" sz="4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7556400" cy="117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Гарантии электромагнитной безопасности современного оборудования с импульсными источниками питания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8" name="AutoShape 3"/>
          <p:cNvSpPr/>
          <p:nvPr/>
        </p:nvSpPr>
        <p:spPr>
          <a:xfrm>
            <a:off x="179280" y="189000"/>
            <a:ext cx="1079640" cy="792000"/>
          </a:xfrm>
          <a:prstGeom prst="roundRect">
            <a:avLst>
              <a:gd name="adj" fmla="val 34671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DFE7-1311-4198-B15F-47BFBA4EB8BE}" type="slidenum">
              <a:rPr b="1" lang="ru-RU" sz="4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78920" y="1530360"/>
            <a:ext cx="87138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стоящее время в Российской Федерации при сертификации отдельных типов технических средств (например, осветительной аппаратуры) проверка по ЭМП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уществляе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о отечественным стандартам – с частот 9 кГц и выше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05280" indent="-3052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ближайшее время при сертификации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будет осуществлен перех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 требования Регламентов Таможенного союза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рка будет осуществлять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о требованиям международных стандартов, в которых требования могут быть изменены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05280" indent="-3052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енно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может исчезнуть подтверждение гарантии производител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безопасность этих технических средств в низкочастотном диапазоне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от 10 кГц до 3 МГц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7556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Алгоритм идентификации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по электромагнитным полям современного оборудования с импульсными источниками питания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1" name="AutoShape 3"/>
          <p:cNvSpPr/>
          <p:nvPr/>
        </p:nvSpPr>
        <p:spPr>
          <a:xfrm>
            <a:off x="179280" y="189000"/>
            <a:ext cx="1079640" cy="792000"/>
          </a:xfrm>
          <a:prstGeom prst="roundRect">
            <a:avLst>
              <a:gd name="adj" fmla="val 34671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735F-468F-47FF-B3FE-7D6561D8A91E}" type="slidenum">
              <a:rPr b="1" lang="ru-RU" sz="4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-360" y="1484280"/>
            <a:ext cx="889308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 затребовать на такое оборудование сертификат безопасности (декларацию безопасности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сертификат (декларация) есть – то нужно проверить: на соответствие каким конкретно стандартам есть подтверждение безопасности в этом сертификате или декларации.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Если сертификата (декларации) не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либо если в сертификате (в декларации) указаны стандарты, согласно которым испытания в низкочастотном диапазон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0,01-0,03 МГц  и 0.03 -3 МГц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при сертификации не проводится и производителем не гарантируется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то проверка на электромагнитные поля данного диапазона при СОУТ обязательна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5578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Электромагнитные излучения диапазонов частот от 3 МГц до 3 ГГц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4" name="AutoShape 3"/>
          <p:cNvSpPr/>
          <p:nvPr/>
        </p:nvSpPr>
        <p:spPr>
          <a:xfrm>
            <a:off x="179280" y="189000"/>
            <a:ext cx="1079640" cy="792000"/>
          </a:xfrm>
          <a:prstGeom prst="roundRect">
            <a:avLst>
              <a:gd name="adj" fmla="val 34671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A3D7-A7FA-4468-A881-E58668AA003C}" type="slidenum">
              <a:rPr b="1" lang="ru-RU" sz="4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58560" y="1557360"/>
            <a:ext cx="8461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источники излучений данного частотного диапазона – теле и радиостанции, сотовая связь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этом диапазоне для анализа целесообразно разбиение рабочих мест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три типа по характеру используемой на них аппаратур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прием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аппаратура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передающ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аппаратура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антенные узл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ередающей аппаратуры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7556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Алгоритм идентификации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по электромагнитным полям радиочастотного диапазона до 3 ГГц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7" name="AutoShape 3"/>
          <p:cNvSpPr/>
          <p:nvPr/>
        </p:nvSpPr>
        <p:spPr>
          <a:xfrm>
            <a:off x="179280" y="189000"/>
            <a:ext cx="1079640" cy="792000"/>
          </a:xfrm>
          <a:prstGeom prst="roundRect">
            <a:avLst>
              <a:gd name="adj" fmla="val 34671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05B0-EC87-4A9C-9A18-A306012ED4C5}" type="slidenum">
              <a:rPr b="1" lang="ru-RU" sz="4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-360" y="1484280"/>
            <a:ext cx="889308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Для рабочих мест с приемной аппаратур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т смысла проводить измерения ЭМП, так как в приемной аппаратуре (включая приемные антенны) нет мощных источников ЭМП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Для рабочих мест с передающей аппаратур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ужна проверка наличия сертификатов или деклараций соответствия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их отсутствии измерение ЭМП обязатель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ак как нет гарантии подтверждения безопасности технического средства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Для рабочих мест с антенными узл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едающей аппаратуры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рение ЭМ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есообразно даже при наличии сертификатов и декларац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ответствия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5578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Электромагнитные излучения 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СВЧ диапазона от 3 ГГц до 60 ГГц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0" name="AutoShape 3"/>
          <p:cNvSpPr/>
          <p:nvPr/>
        </p:nvSpPr>
        <p:spPr>
          <a:xfrm>
            <a:off x="179280" y="189000"/>
            <a:ext cx="1079640" cy="792000"/>
          </a:xfrm>
          <a:prstGeom prst="roundRect">
            <a:avLst>
              <a:gd name="adj" fmla="val 34671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F89C-4A54-409C-A85B-0EF0BC43264D}" type="slidenum">
              <a:rPr b="1" lang="ru-RU" sz="4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58560" y="1557360"/>
            <a:ext cx="8461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источники излучений данного частотного диапазона – радиолокаторы в различных сферах их применения, медицинская техника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и в диапазоне до 3ГГц в этом диапазоне для анализа также целесообразно разбиение рабочих мест на три типа по характеру используемой на них аппаратуры (приемная аппаратура, передающая аппаратура, антенные узлы передающей аппаратуры), </a:t>
            </a:r>
            <a:br>
              <a:rPr sz="2800"/>
            </a:b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но …… с одним существенным нюансом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48512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Идентификация потенциально опасных и вредных факторов производственной среды в части электромагнитных полей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64072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Проблема (нюанс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стоит в том, что Электромагнитные поля и излучения -  потенциальные факторы вредности,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«не имеющие ни цвета, ни запаха».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ичную информацию о них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 невозможно получит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использованием органов чувств человека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60520" indent="-56052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Это накладывает свои особенност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на процедуру идентификац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омиссией предприятия или экспертами организации, проводящей СОУ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179280" y="189000"/>
            <a:ext cx="1079640" cy="792000"/>
          </a:xfrm>
          <a:prstGeom prst="roundRect">
            <a:avLst>
              <a:gd name="adj" fmla="val 34671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DA26-0F01-4001-8FEE-5B6D3226A4E5}" type="slidenum">
              <a:rPr b="1" lang="ru-RU" sz="4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5578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Нюанс идентификации </a:t>
            </a:r>
            <a:br>
              <a:rPr sz="2800"/>
            </a:b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электромагнитных излучений </a:t>
            </a:r>
            <a:br>
              <a:rPr sz="2800"/>
            </a:b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ВЧ диапазона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3" name="AutoShape 3"/>
          <p:cNvSpPr/>
          <p:nvPr/>
        </p:nvSpPr>
        <p:spPr>
          <a:xfrm>
            <a:off x="179280" y="189000"/>
            <a:ext cx="1079640" cy="792000"/>
          </a:xfrm>
          <a:prstGeom prst="roundRect">
            <a:avLst>
              <a:gd name="adj" fmla="val 34671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BE9C-FFC8-46C4-93C0-52C630B4B47E}" type="slidenum">
              <a:rPr b="1" lang="ru-RU" sz="4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461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любого типа аппаратуры данного диапазона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электромагнитное излучение должно идентифицироваться как требующее измерения при СОУ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если проводится оценка рабочих мест,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на которых осуществляется настройка данной аппаратур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 высокочастотным параметрам (коэффициент усиления, рабочий диапазон, мощность и т.п.)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556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Общий алгоритм идентификации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по электромагнитным полям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6" name="AutoShape 3"/>
          <p:cNvSpPr/>
          <p:nvPr/>
        </p:nvSpPr>
        <p:spPr>
          <a:xfrm>
            <a:off x="179280" y="189000"/>
            <a:ext cx="1079640" cy="792000"/>
          </a:xfrm>
          <a:prstGeom prst="roundRect">
            <a:avLst>
              <a:gd name="adj" fmla="val 34671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0320-D8C6-4C45-A0F8-4CAA363E759F}" type="slidenum">
              <a:rPr b="1" lang="ru-RU" sz="4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96472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ализируется техническая документ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 оборудование и технологические процессы рабочего места  - 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определяются возможные источники и возможные тип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лектромагнитных полей и излучений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ализируются паспорт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анные на оборудование, имеющие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ртификаты и деклар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роверяется наличие и подтверждение требований безопас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орудования в части тех типов электромагнитных полей, которые потенциально оно может создавать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В случае отсутств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документах подтверждения безопасности  принимается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решение о необходимости измере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процессе СОУТ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5391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Информационные материалы семинар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9" name="AutoShape 3"/>
          <p:cNvSpPr/>
          <p:nvPr/>
        </p:nvSpPr>
        <p:spPr>
          <a:xfrm>
            <a:off x="179280" y="189000"/>
            <a:ext cx="1079640" cy="792000"/>
          </a:xfrm>
          <a:prstGeom prst="roundRect">
            <a:avLst>
              <a:gd name="adj" fmla="val 34671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8D39-94A4-48E2-B9A7-A9D3DC1807BA}" type="slidenum">
              <a:rPr b="1" lang="ru-RU" sz="4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50560" y="2421000"/>
            <a:ext cx="8713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Times New Roman"/>
              </a:rPr>
              <a:t>ciklon.ru</a:t>
            </a:r>
            <a:r>
              <a:rPr b="1" lang="ru-RU" sz="5400" spc="-1" strike="noStrike">
                <a:solidFill>
                  <a:srgbClr val="990000"/>
                </a:solidFill>
                <a:latin typeface="Times New Roman"/>
              </a:rPr>
              <a:t>/</a:t>
            </a:r>
            <a:r>
              <a:rPr b="1" lang="en-US" sz="5400" spc="-1" strike="noStrike">
                <a:solidFill>
                  <a:srgbClr val="990000"/>
                </a:solidFill>
                <a:latin typeface="Times New Roman"/>
              </a:rPr>
              <a:t>seminar</a:t>
            </a:r>
            <a:r>
              <a:rPr b="1" lang="ru-RU" sz="5400" spc="-1" strike="noStrike">
                <a:solidFill>
                  <a:srgbClr val="990000"/>
                </a:solidFill>
                <a:latin typeface="Times New Roman"/>
              </a:rPr>
              <a:t>/151113</a:t>
            </a:r>
            <a:endParaRPr b="0" lang="en-US" sz="5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324000" y="3645000"/>
            <a:ext cx="8569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фанасьев Анатолий Иванович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меститель генерального директора ОАО НПП «Циклон-Тест»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Тел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495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95-72-0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доб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15, 225</a:t>
            </a:r>
            <a:br>
              <a:rPr sz="2400"/>
            </a:b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тел.моб.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8-916) 519-73-20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эл.почта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fai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@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iklon.ru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айт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ww.ciklon.ru/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1835280" y="260280"/>
            <a:ext cx="6697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58920" y="1052640"/>
            <a:ext cx="748512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Рассмотрим: </a:t>
            </a:r>
            <a:br>
              <a:rPr sz="3200"/>
            </a:b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что нужно принимать во внимание </a:t>
            </a:r>
            <a:br>
              <a:rPr sz="3200"/>
            </a:b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в первую очередь, </a:t>
            </a:r>
            <a:br>
              <a:rPr sz="3200"/>
            </a:b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на что нужно обращать внимание </a:t>
            </a:r>
            <a:br>
              <a:rPr sz="3200"/>
            </a:b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при идентификации потенциального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наличия высокого уровня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тех или иных типов электромагнитных поле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" name="AutoShape 4"/>
          <p:cNvSpPr/>
          <p:nvPr/>
        </p:nvSpPr>
        <p:spPr>
          <a:xfrm>
            <a:off x="179280" y="189000"/>
            <a:ext cx="1079640" cy="792000"/>
          </a:xfrm>
          <a:prstGeom prst="roundRect">
            <a:avLst>
              <a:gd name="adj" fmla="val 34671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0ABE-5E65-4AA0-8BC7-008D3E6F9BFF}" type="slidenum">
              <a:rPr b="1" lang="ru-RU" sz="4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59312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Граничные условия </a:t>
            </a:r>
            <a:br>
              <a:rPr sz="3200"/>
            </a:b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рассмотрения вопроса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663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Рассматриваются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электромагнитные поля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 и неионизирующие излучения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в классическом их понимании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.е электромагнитные поля и излучения «не имеющие и цвета, ни запаха» и не индицирующиеся непосредственно органами чувств человека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Не рассматривает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идимый диапазон длин волн, тепловое излучение (инфракрасное), ультрафиолетовое, которые ,по сути, также являются электромагнитным и полями и излучениями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179280" y="189000"/>
            <a:ext cx="1079640" cy="792000"/>
          </a:xfrm>
          <a:prstGeom prst="roundRect">
            <a:avLst>
              <a:gd name="adj" fmla="val 34671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0FED-55E5-44DF-A871-C91EBD7703E4}" type="slidenum">
              <a:rPr b="1" lang="ru-RU" sz="4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59312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Граничные условия </a:t>
            </a:r>
            <a:br>
              <a:rPr sz="3200"/>
            </a:b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рассмотрения вопроса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766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Рассматриваются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электромагнитные поля и излучен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пределении действующих гигиенических критериев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. 2.2.2006-0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тодики СОУ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 Unicode MS"/>
              </a:rPr>
              <a:t>Геомагнитное поле (ослабление);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Электростатическое поле;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 Unicode MS"/>
              </a:rPr>
              <a:t>Постоянное магнитное поле;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Электрические и магнитные поля промышленной частоты (50 Гц);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 Unicode MS"/>
              </a:rPr>
              <a:t>Электромагнитные поля на рабочем месте пользователя ПЭВМ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Электромагнитные излучения радиочастотного диапазона 0,01 МГц - 300 ГГц;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179280" y="189000"/>
            <a:ext cx="1079640" cy="792000"/>
          </a:xfrm>
          <a:prstGeom prst="roundRect">
            <a:avLst>
              <a:gd name="adj" fmla="val 34671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5C54-CF56-44A1-B11F-405D689CF8D2}" type="slidenum">
              <a:rPr b="1" lang="ru-RU" sz="4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8920" y="260280"/>
            <a:ext cx="74851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Электростатическое поле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640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5000"/>
              </a:lnSpc>
              <a:spcBef>
                <a:spcPts val="1225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Предпосылки возникновения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зкая влажность в помещении;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технологического оборудования с перемещением сыпучих веществ, тканей, листовых материалов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лектризация тре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сутствие открытых источников высокого напряжени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85000"/>
              </a:lnSpc>
              <a:spcBef>
                <a:spcPts val="1225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Признаки наличия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Бьет током» при прикосновении к металлическим предметам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липают друг к другу листовые материалы (листы бумаги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AutoShape 4"/>
          <p:cNvSpPr/>
          <p:nvPr/>
        </p:nvSpPr>
        <p:spPr>
          <a:xfrm>
            <a:off x="179280" y="189000"/>
            <a:ext cx="1079640" cy="792000"/>
          </a:xfrm>
          <a:prstGeom prst="roundRect">
            <a:avLst>
              <a:gd name="adj" fmla="val 34671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09FD-6F6E-4998-8A4C-9C00C2BD488F}" type="slidenum">
              <a:rPr b="1" lang="ru-RU" sz="4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920" y="260280"/>
            <a:ext cx="74851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Постоянное магнитное поле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640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5000"/>
              </a:lnSpc>
              <a:spcBef>
                <a:spcPts val="1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Основные источники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ологические процессы с использованием постоянного тока (процесс электролиза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я рассеяния постоянных магнитов в специальных технологических установках и в научном оборудовании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95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дицинская аппаратура (МРТ</a:t>
            </a:r>
            <a:br>
              <a:rPr sz="24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в документации на оборудования не указаны уровни   магнитных полей вне технологических зо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то измерение их (идентификация как присутствующих) обязательна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179280" y="189000"/>
            <a:ext cx="1079640" cy="792000"/>
          </a:xfrm>
          <a:prstGeom prst="roundRect">
            <a:avLst>
              <a:gd name="adj" fmla="val 34671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A76D-7BC6-4757-8144-B8BE8D4A8D76}" type="slidenum">
              <a:rPr b="1" lang="ru-RU" sz="4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920" y="189000"/>
            <a:ext cx="7556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Геомагнитные и </a:t>
            </a:r>
            <a:br>
              <a:rPr sz="3200"/>
            </a:b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гипогеомагнитные поля</a:t>
            </a:r>
            <a:br>
              <a:rPr sz="3200"/>
            </a:b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(определение)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AutoShape 3"/>
          <p:cNvSpPr/>
          <p:nvPr/>
        </p:nvSpPr>
        <p:spPr>
          <a:xfrm>
            <a:off x="179280" y="189000"/>
            <a:ext cx="1079640" cy="792000"/>
          </a:xfrm>
          <a:prstGeom prst="roundRect">
            <a:avLst>
              <a:gd name="adj" fmla="val 34671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CDBB-C66B-4428-8F70-99F399B0E916}" type="slidenum">
              <a:rPr b="1" lang="ru-RU" sz="4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8766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Геомагнитное пол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это магнитное поле Земли. За норму по ГМП принято естественное поле земли в районе, к которому привык человек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личина геомагнитного поля – 30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40 мкТл, в магнитных аномалиях – до 100 мкТл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Гипогеомагнитное поле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агнитное поле внутри экранированного объекта, 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являющееся суперпозицией магнитных полей, 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создаваем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омагнитны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лем, ослабленным экраном объекта;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ем остаточной намагниченнос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ерромагнитных част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нструкции объекта;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е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тоянного то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ротекающего по шинам и частям конструкции объекта (рабочего места)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8T07:06:38Z</dcterms:created>
  <dc:creator>А.Афанасьев</dc:creator>
  <dc:description/>
  <dc:language>en-US</dc:language>
  <cp:lastModifiedBy>tuisova</cp:lastModifiedBy>
  <dcterms:modified xsi:type="dcterms:W3CDTF">2013-11-15T12:49:04Z</dcterms:modified>
  <cp:revision>1116</cp:revision>
  <dc:subject/>
  <dc:title>Презентация PowerPoint</dc:title>
</cp:coreProperties>
</file>